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D0FC-2B9C-4747-AFFA-C011BBDDBB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B7C6-D4CA-445C-96FD-E673E08B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D9C8-CC6A-48B1-8D62-4F836FD6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8E6C-C1D4-4DDE-B702-05E61368C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528D-269B-464F-B773-60526C26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0355-9D79-47D3-A13E-25CCBA5D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C773-A348-4372-8F0F-5B5BFF84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B585-C8A2-4131-BBAF-7D754BD5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8E47-2CF6-4646-8A2E-DD93994E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5133-CAFD-4441-A44B-C63FADA4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D39C-FF15-4793-86E7-E3B46C06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E831F-F80A-4FBA-AF61-809C577E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166680"/>
            <a:ext cx="754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28640"/>
            <a:ext cx="914400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945120" y="6600960"/>
            <a:ext cx="169524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420E-ECDB-4EF3-B0E4-E952F6516D19}" type="datetime">
              <a:rPr b="0" lang="en-GB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3865680" y="6605640"/>
            <a:ext cx="1371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C97-41C6-46E0-961B-1872D365B06C}" type="slidenum">
              <a:rPr b="0" lang="sv-S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83520" y="144360"/>
            <a:ext cx="1730160" cy="446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ct val="94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8360">
              <a:lnSpc>
                <a:spcPct val="94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28600">
              <a:lnSpc>
                <a:spcPct val="94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41960" y="735120"/>
            <a:ext cx="3902040" cy="584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6000" y="824040"/>
            <a:ext cx="8837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Sistema Monitoreo Barreras Automática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6360" y="4748040"/>
            <a:ext cx="4570560" cy="1200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80000" indent="-180000">
              <a:lnSpc>
                <a:spcPct val="94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Auditoría de Event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94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ayo - Octubr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2"/>
          <a:srcRect l="0" t="7526" r="0" b="16744"/>
          <a:stretch/>
        </p:blipFill>
        <p:spPr>
          <a:xfrm>
            <a:off x="306360" y="2197080"/>
            <a:ext cx="546264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D71C-34C1-4E40-96BD-0C68F4CA15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3932B-7C1F-4C40-84D8-42AC61643C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6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3027" name=""/>
          <p:cNvGrpSpPr/>
          <p:nvPr/>
        </p:nvGrpSpPr>
        <p:grpSpPr>
          <a:xfrm>
            <a:off x="50760" y="895320"/>
            <a:ext cx="9166320" cy="5565960"/>
            <a:chOff x="50760" y="895320"/>
            <a:chExt cx="9166320" cy="5565960"/>
          </a:xfrm>
        </p:grpSpPr>
        <p:grpSp>
          <p:nvGrpSpPr>
            <p:cNvPr id="3028" name=""/>
            <p:cNvGrpSpPr/>
            <p:nvPr/>
          </p:nvGrpSpPr>
          <p:grpSpPr>
            <a:xfrm>
              <a:off x="188640" y="1235160"/>
              <a:ext cx="8244000" cy="4843440"/>
              <a:chOff x="188640" y="1235160"/>
              <a:chExt cx="8244000" cy="4843440"/>
            </a:xfrm>
          </p:grpSpPr>
          <p:sp>
            <p:nvSpPr>
              <p:cNvPr id="3029" name=""/>
              <p:cNvSpPr/>
              <p:nvPr/>
            </p:nvSpPr>
            <p:spPr>
              <a:xfrm>
                <a:off x="411120" y="1935000"/>
                <a:ext cx="802152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11120" y="602604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11120" y="551484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11120" y="50022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11120" y="44928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11120" y="39798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11120" y="34704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1120" y="29574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11120" y="24462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11120" y="19350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11120" y="1935000"/>
                <a:ext cx="802152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25520" y="5538960"/>
                <a:ext cx="10008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54040" y="5514840"/>
                <a:ext cx="10152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84360" y="5692680"/>
                <a:ext cx="9972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814320" y="5616720"/>
                <a:ext cx="1000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942840" y="5641920"/>
                <a:ext cx="10008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1071720" y="5641920"/>
                <a:ext cx="9972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1201680" y="5565600"/>
                <a:ext cx="10008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133020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1460520" y="5411880"/>
                <a:ext cx="10008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589040" y="5411880"/>
                <a:ext cx="10152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1719360" y="5514840"/>
                <a:ext cx="10008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1849320" y="5437080"/>
                <a:ext cx="1000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1978200" y="5565600"/>
                <a:ext cx="10152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108160" y="5156280"/>
                <a:ext cx="98640" cy="612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235240" y="5361120"/>
                <a:ext cx="101520" cy="407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36520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495520" y="5616720"/>
                <a:ext cx="1000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624040" y="4976640"/>
                <a:ext cx="101520" cy="792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754360" y="5156280"/>
                <a:ext cx="100080" cy="612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882880" y="5156280"/>
                <a:ext cx="101520" cy="612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013200" y="5105520"/>
                <a:ext cx="9972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143160" y="5259240"/>
                <a:ext cx="10008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271680" y="5335560"/>
                <a:ext cx="100080" cy="433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400560" y="5232240"/>
                <a:ext cx="9972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529080" y="5284800"/>
                <a:ext cx="101520" cy="484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659040" y="5489640"/>
                <a:ext cx="10008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789360" y="5437080"/>
                <a:ext cx="1000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917880" y="5078520"/>
                <a:ext cx="101520" cy="690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048200" y="5207040"/>
                <a:ext cx="100080" cy="5619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176720" y="5514840"/>
                <a:ext cx="10152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437000" y="5538960"/>
                <a:ext cx="9864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564080" y="5259240"/>
                <a:ext cx="10152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694400" y="5232240"/>
                <a:ext cx="9972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4824360" y="5538960"/>
                <a:ext cx="10008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952880" y="5462640"/>
                <a:ext cx="1018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083200" y="5538960"/>
                <a:ext cx="10008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11720" y="5489640"/>
                <a:ext cx="10152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342040" y="5692680"/>
                <a:ext cx="1000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472000" y="5361120"/>
                <a:ext cx="98640" cy="407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599080" y="5719680"/>
                <a:ext cx="10152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729400" y="5335560"/>
                <a:ext cx="100080" cy="433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857920" y="5514840"/>
                <a:ext cx="10152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98788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118200" y="5232240"/>
                <a:ext cx="10008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46720" y="5514840"/>
                <a:ext cx="10152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377040" y="4976640"/>
                <a:ext cx="100080" cy="792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505560" y="5284800"/>
                <a:ext cx="101520" cy="484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635880" y="5411880"/>
                <a:ext cx="9828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764400" y="5232240"/>
                <a:ext cx="10008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892920" y="5284800"/>
                <a:ext cx="101520" cy="484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023240" y="5411880"/>
                <a:ext cx="9972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151760" y="5232240"/>
                <a:ext cx="10152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281720" y="5489640"/>
                <a:ext cx="10008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412040" y="5207040"/>
                <a:ext cx="100080" cy="5619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540560" y="5386320"/>
                <a:ext cx="101520" cy="382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670880" y="5259240"/>
                <a:ext cx="10008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800840" y="5078520"/>
                <a:ext cx="98640" cy="690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927920" y="5386320"/>
                <a:ext cx="101520" cy="382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805824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8186760" y="5616720"/>
                <a:ext cx="10152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8317080" y="5641920"/>
                <a:ext cx="9972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11120" y="5769000"/>
                <a:ext cx="8021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V="1">
                <a:off x="541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V="1">
                <a:off x="669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800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930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1057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1187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1316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1446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V="1">
                <a:off x="1576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V="1">
                <a:off x="1704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V="1">
                <a:off x="183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V="1">
                <a:off x="196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2093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222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2351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V="1">
                <a:off x="248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2611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2739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2870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2998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V="1">
                <a:off x="3129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V="1">
                <a:off x="3259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V="1">
                <a:off x="3386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V="1">
                <a:off x="351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V="1">
                <a:off x="3645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V="1">
                <a:off x="3774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V="1">
                <a:off x="390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V="1">
                <a:off x="403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4164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V="1">
                <a:off x="429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V="1">
                <a:off x="4422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V="1">
                <a:off x="4551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4680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V="1">
                <a:off x="4809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V="1">
                <a:off x="4940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V="1">
                <a:off x="5068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flipV="1">
                <a:off x="5199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V="1">
                <a:off x="532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5457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flipV="1">
                <a:off x="558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5715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V="1">
                <a:off x="584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5973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V="1">
                <a:off x="610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6234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V="1">
                <a:off x="636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V="1">
                <a:off x="6492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flipV="1">
                <a:off x="6621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V="1">
                <a:off x="6750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6880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V="1">
                <a:off x="7008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7139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726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739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7527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765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778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791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8043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8174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830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843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68000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rot="16200000">
                <a:off x="43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rot="16200000">
                <a:off x="568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rot="16200000">
                <a:off x="6966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rot="16200000">
                <a:off x="826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rot="16200000">
                <a:off x="957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rot="16200000">
                <a:off x="10857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rot="16200000">
                <a:off x="1215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 rot="16200000">
                <a:off x="13446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rot="16200000">
                <a:off x="1474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rot="16200000">
                <a:off x="1575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rot="16200000">
                <a:off x="1703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 rot="16200000">
                <a:off x="1833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rot="16200000">
                <a:off x="1962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rot="16200000">
                <a:off x="2094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rot="16200000">
                <a:off x="2224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rot="16200000">
                <a:off x="2352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rot="16200000">
                <a:off x="2483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rot="16200000">
                <a:off x="26132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rot="16200000">
                <a:off x="2740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rot="16200000">
                <a:off x="2870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rot="16200000">
                <a:off x="2999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rot="16200000">
                <a:off x="3129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rot="16200000">
                <a:off x="3259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rot="16200000">
                <a:off x="3387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rot="16200000">
                <a:off x="3518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rot="16200000">
                <a:off x="3646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rot="16200000">
                <a:off x="3777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rot="16200000">
                <a:off x="3905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rot="16200000">
                <a:off x="4034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rot="16200000">
                <a:off x="4164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rot="16200000">
                <a:off x="4293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 rot="16200000">
                <a:off x="4451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 rot="16200000">
                <a:off x="45813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rot="16200000">
                <a:off x="47098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rot="16200000">
                <a:off x="4840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rot="16200000">
                <a:off x="4968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rot="16200000">
                <a:off x="5097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rot="16200000">
                <a:off x="5227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rot="16200000">
                <a:off x="5356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rot="16200000">
                <a:off x="5486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rot="16200000">
                <a:off x="5588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rot="16200000">
                <a:off x="5716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rot="16200000">
                <a:off x="584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rot="16200000">
                <a:off x="5975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9" name=""/>
            <p:cNvSpPr/>
            <p:nvPr/>
          </p:nvSpPr>
          <p:spPr>
            <a:xfrm rot="16200000">
              <a:off x="610416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 rot="16200000">
              <a:off x="623448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 rot="16200000">
              <a:off x="636300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 rot="16200000">
              <a:off x="649332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 rot="16200000">
              <a:off x="662184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 rot="16200000">
              <a:off x="675216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 rot="16200000">
              <a:off x="688212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 rot="16200000">
              <a:off x="701064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 rot="16200000">
              <a:off x="714096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 rot="16200000">
              <a:off x="726804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 rot="16200000">
              <a:off x="739800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 rot="16200000">
              <a:off x="752832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 rot="16200000">
              <a:off x="765684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 rot="16200000">
              <a:off x="778716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 rot="16200000">
              <a:off x="791568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 rot="16200000">
              <a:off x="804564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 rot="16200000">
              <a:off x="817596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 rot="16200000">
              <a:off x="830448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41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669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0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930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057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187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316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46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576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704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835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963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093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222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351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481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611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9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870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998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129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259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386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51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645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774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905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033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164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292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551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680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809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940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068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199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327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457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58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715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845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973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6103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6234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362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492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621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6750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6880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008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139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267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397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527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65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786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5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043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174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0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41056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39324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4326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42260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534520" y="3981600"/>
              <a:ext cx="68256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57088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681040" y="4005360"/>
              <a:ext cx="514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-Girardo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164120" y="6297480"/>
              <a:ext cx="27756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21056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443480" y="6297480"/>
              <a:ext cx="2332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48992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534520" y="3790800"/>
              <a:ext cx="68256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58384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7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819B-0408-4EE0-AA6B-27ADF3A01EAA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3877D-0987-4F84-A6CE-361B4717AD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8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329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330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1ED00-7F68-484B-8DF4-6E7D34FFF6A4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CEDC3-A3AA-48BE-B15C-26F2A94B20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1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332" name="" descr=""/>
          <p:cNvPicPr/>
          <p:nvPr/>
        </p:nvPicPr>
        <p:blipFill>
          <a:blip r:embed="rId2"/>
          <a:stretch/>
        </p:blipFill>
        <p:spPr>
          <a:xfrm>
            <a:off x="-16344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333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F353-9A04-4C85-99D9-C5072A9E7F2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A9825-D680-46FE-B4DC-52C44DD661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4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335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336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A38A-B2A8-47AF-B473-4721291EAD5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B6C56-9CD2-4C62-A2CA-780834C765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7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338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339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860F-8F2B-49D2-AF59-C86CF695359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5635C-439A-4901-A8B9-FCFD003314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3341" name=""/>
          <p:cNvGrpSpPr/>
          <p:nvPr/>
        </p:nvGrpSpPr>
        <p:grpSpPr>
          <a:xfrm>
            <a:off x="50760" y="895320"/>
            <a:ext cx="9167760" cy="5565960"/>
            <a:chOff x="50760" y="895320"/>
            <a:chExt cx="9167760" cy="5565960"/>
          </a:xfrm>
        </p:grpSpPr>
        <p:grpSp>
          <p:nvGrpSpPr>
            <p:cNvPr id="3342" name=""/>
            <p:cNvGrpSpPr/>
            <p:nvPr/>
          </p:nvGrpSpPr>
          <p:grpSpPr>
            <a:xfrm>
              <a:off x="188640" y="1235160"/>
              <a:ext cx="7899840" cy="4843440"/>
              <a:chOff x="188640" y="1235160"/>
              <a:chExt cx="7899840" cy="4843440"/>
            </a:xfrm>
          </p:grpSpPr>
          <p:sp>
            <p:nvSpPr>
              <p:cNvPr id="3343" name=""/>
              <p:cNvSpPr/>
              <p:nvPr/>
            </p:nvSpPr>
            <p:spPr>
              <a:xfrm>
                <a:off x="411120" y="1935000"/>
                <a:ext cx="767736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11120" y="602604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411120" y="551484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411120" y="50022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411120" y="44928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411120" y="39798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411120" y="34704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411120" y="29574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411120" y="24462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411120" y="19350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11120" y="1935000"/>
                <a:ext cx="767736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01652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997600" y="5719680"/>
                <a:ext cx="9360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121440" y="5719680"/>
                <a:ext cx="9360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6243480" y="4184640"/>
                <a:ext cx="96840" cy="1584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369120" y="3086280"/>
                <a:ext cx="95040" cy="2682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492960" y="5538960"/>
                <a:ext cx="9360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61680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98832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234200" y="5719680"/>
                <a:ext cx="9684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411120" y="5769000"/>
                <a:ext cx="7677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 flipV="1">
                <a:off x="534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V="1">
                <a:off x="658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 flipV="1">
                <a:off x="78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 flipV="1">
                <a:off x="90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V="1">
                <a:off x="1030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 flipV="1">
                <a:off x="1154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 flipV="1">
                <a:off x="1278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V="1">
                <a:off x="140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 flipV="1">
                <a:off x="1525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 flipV="1">
                <a:off x="1649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V="1">
                <a:off x="1773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 flipV="1">
                <a:off x="1897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 flipV="1">
                <a:off x="2021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V="1">
                <a:off x="2144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V="1">
                <a:off x="2270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V="1">
                <a:off x="239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V="1">
                <a:off x="2516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V="1">
                <a:off x="2639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 flipV="1">
                <a:off x="2765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V="1">
                <a:off x="2887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 flipV="1">
                <a:off x="3011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V="1">
                <a:off x="3135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V="1">
                <a:off x="3260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V="1">
                <a:off x="3382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 flipV="1">
                <a:off x="350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V="1">
                <a:off x="3630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 flipV="1">
                <a:off x="3755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 flipV="1">
                <a:off x="3878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 flipV="1">
                <a:off x="4002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V="1">
                <a:off x="4125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V="1">
                <a:off x="4251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V="1">
                <a:off x="4373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V="1">
                <a:off x="4497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V="1">
                <a:off x="4621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V="1">
                <a:off x="4745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4869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4992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V="1">
                <a:off x="5116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V="1">
                <a:off x="5240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V="1">
                <a:off x="5364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V="1">
                <a:off x="5487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V="1">
                <a:off x="5611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V="1">
                <a:off x="5735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V="1">
                <a:off x="5859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flipV="1">
                <a:off x="5983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V="1">
                <a:off x="6107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V="1">
                <a:off x="6230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 flipV="1">
                <a:off x="6354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 flipV="1">
                <a:off x="6478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V="1">
                <a:off x="6602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 flipV="1">
                <a:off x="6726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 flipV="1">
                <a:off x="6850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 flipV="1">
                <a:off x="6973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 flipV="1">
                <a:off x="7097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 flipV="1">
                <a:off x="722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 flipV="1">
                <a:off x="7345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 flipV="1">
                <a:off x="7469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V="1">
                <a:off x="7593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7716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7840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7964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8088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681440" y="1235160"/>
                <a:ext cx="180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rot="16200000">
                <a:off x="4363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rot="16200000">
                <a:off x="560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rot="16200000">
                <a:off x="6840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rot="16200000">
                <a:off x="807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rot="16200000">
                <a:off x="931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rot="16200000">
                <a:off x="10555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rot="16200000">
                <a:off x="11793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rot="16200000">
                <a:off x="1303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rot="16200000">
                <a:off x="1427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rot="16200000">
                <a:off x="1522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 rot="16200000">
                <a:off x="1646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rot="16200000">
                <a:off x="1770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 rot="16200000">
                <a:off x="1894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 rot="16200000">
                <a:off x="2019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 rot="16200000">
                <a:off x="2143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 rot="16200000">
                <a:off x="2267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 rot="16200000">
                <a:off x="2389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 rot="16200000">
                <a:off x="2514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 rot="16200000">
                <a:off x="2638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 rot="16200000">
                <a:off x="2762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rot="16200000">
                <a:off x="2884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rot="16200000">
                <a:off x="3010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rot="16200000">
                <a:off x="3134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 rot="16200000">
                <a:off x="325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 rot="16200000">
                <a:off x="3380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 rot="16200000">
                <a:off x="350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 rot="16200000">
                <a:off x="3629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rot="16200000">
                <a:off x="3753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rot="16200000">
                <a:off x="3875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rot="16200000">
                <a:off x="4001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rot="16200000">
                <a:off x="4124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 rot="16200000">
                <a:off x="4276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 rot="16200000">
                <a:off x="4398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 rot="16200000">
                <a:off x="4524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 rot="16200000">
                <a:off x="4647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 rot="16200000">
                <a:off x="4771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rot="16200000">
                <a:off x="4894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rot="16200000">
                <a:off x="50194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 rot="16200000">
                <a:off x="51433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rot="16200000">
                <a:off x="5267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rot="16200000">
                <a:off x="5361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rot="16200000">
                <a:off x="5486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rot="16200000">
                <a:off x="5610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rot="16200000">
                <a:off x="5734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rot="16200000">
                <a:off x="5855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rot="16200000">
                <a:off x="5982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rot="16200000">
                <a:off x="6105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 rot="16200000">
                <a:off x="622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 rot="16200000">
                <a:off x="6351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rot="16200000">
                <a:off x="647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rot="16200000">
                <a:off x="6601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rot="16200000">
                <a:off x="6725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rot="16200000">
                <a:off x="6847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rot="16200000">
                <a:off x="6971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rot="16200000">
                <a:off x="70963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rot="16200000">
                <a:off x="72201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rot="16200000">
                <a:off x="73425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rot="16200000">
                <a:off x="7466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rot="16200000">
                <a:off x="75916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rot="16200000">
                <a:off x="77155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rot="16200000">
                <a:off x="78393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rot="16200000">
                <a:off x="79617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349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58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82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9064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030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11541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12780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14018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15256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1649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17733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18972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20210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2144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22701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23922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25160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639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2765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28875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011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3135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3260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382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506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36306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3755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38782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40021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1259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4373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44974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621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7451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4869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992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116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5240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364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487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611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5735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859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983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6107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230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354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478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6602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6726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850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973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97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221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345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469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593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716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840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964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32488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13620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08848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42512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8191440" y="3981600"/>
              <a:ext cx="102708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822816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8337600" y="4005360"/>
              <a:ext cx="860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9-Gral. Rodrigu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990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03920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270320" y="6297480"/>
              <a:ext cx="2350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3185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8191440" y="3790800"/>
              <a:ext cx="102708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824076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9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B1AC-59FD-46AD-A9A0-71E89EC68D1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429E8-DD1E-4DF3-BD6A-B61DFE581F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591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592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225CC-573F-45B8-8B7B-A8D3BCB7580A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49518-5377-4449-AB98-4EB8C97486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3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3594" name=""/>
          <p:cNvGrpSpPr/>
          <p:nvPr/>
        </p:nvGrpSpPr>
        <p:grpSpPr>
          <a:xfrm>
            <a:off x="50760" y="895320"/>
            <a:ext cx="9166320" cy="5565960"/>
            <a:chOff x="50760" y="895320"/>
            <a:chExt cx="9166320" cy="5565960"/>
          </a:xfrm>
        </p:grpSpPr>
        <p:grpSp>
          <p:nvGrpSpPr>
            <p:cNvPr id="3595" name=""/>
            <p:cNvGrpSpPr/>
            <p:nvPr/>
          </p:nvGrpSpPr>
          <p:grpSpPr>
            <a:xfrm>
              <a:off x="188640" y="1235160"/>
              <a:ext cx="8144280" cy="4843440"/>
              <a:chOff x="188640" y="1235160"/>
              <a:chExt cx="8144280" cy="4843440"/>
            </a:xfrm>
          </p:grpSpPr>
          <p:sp>
            <p:nvSpPr>
              <p:cNvPr id="3596" name=""/>
              <p:cNvSpPr/>
              <p:nvPr/>
            </p:nvSpPr>
            <p:spPr>
              <a:xfrm>
                <a:off x="411120" y="1935000"/>
                <a:ext cx="792180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411120" y="602604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411120" y="551484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411120" y="50022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11120" y="44928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11120" y="39798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11120" y="34704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11120" y="29574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11120" y="24462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11120" y="19350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11120" y="1935000"/>
                <a:ext cx="792180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31904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1447920" y="5692680"/>
                <a:ext cx="9684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1574640" y="5641920"/>
                <a:ext cx="9864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17017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3619440" y="5743440"/>
                <a:ext cx="9864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3746520" y="5719680"/>
                <a:ext cx="9828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87360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4002120" y="5335560"/>
                <a:ext cx="98280" cy="433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4130640" y="5105520"/>
                <a:ext cx="9864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386240" y="5105520"/>
                <a:ext cx="9684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4513320" y="5130720"/>
                <a:ext cx="98280" cy="638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4640400" y="5538960"/>
                <a:ext cx="9972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76892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4897440" y="5616720"/>
                <a:ext cx="982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024520" y="5105520"/>
                <a:ext cx="9828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15160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918040" y="5565600"/>
                <a:ext cx="9864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604512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617364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6302520" y="5259240"/>
                <a:ext cx="9828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6429240" y="5232240"/>
                <a:ext cx="9864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6556320" y="5462640"/>
                <a:ext cx="1000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6684840" y="5692680"/>
                <a:ext cx="9864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7578720" y="5207040"/>
                <a:ext cx="100080" cy="5619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7707240" y="5207040"/>
                <a:ext cx="98640" cy="5619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218440" y="5641920"/>
                <a:ext cx="9864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411120" y="5769000"/>
                <a:ext cx="792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 flipV="1">
                <a:off x="539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 flipV="1">
                <a:off x="666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 flipV="1">
                <a:off x="79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 flipV="1">
                <a:off x="92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 flipV="1">
                <a:off x="1049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V="1">
                <a:off x="1177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V="1">
                <a:off x="1306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 flipV="1">
                <a:off x="1433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1560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V="1">
                <a:off x="1689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181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V="1">
                <a:off x="1944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2073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V="1">
                <a:off x="2200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232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2455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V="1">
                <a:off x="2583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V="1">
                <a:off x="2711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V="1">
                <a:off x="2840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V="1">
                <a:off x="296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V="1">
                <a:off x="3094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V="1">
                <a:off x="3222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 flipV="1">
                <a:off x="3349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V="1">
                <a:off x="3478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V="1">
                <a:off x="3605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V="1">
                <a:off x="3732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V="1">
                <a:off x="3860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V="1">
                <a:off x="3987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V="1">
                <a:off x="4116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V="1">
                <a:off x="4245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V="1">
                <a:off x="437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4498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4627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V="1">
                <a:off x="4754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4883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V="1">
                <a:off x="5011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V="1">
                <a:off x="5137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V="1">
                <a:off x="5265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5394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V="1">
                <a:off x="5521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V="1">
                <a:off x="5649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5778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V="1">
                <a:off x="5904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 flipV="1">
                <a:off x="6032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 flipV="1">
                <a:off x="6161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 flipV="1">
                <a:off x="6288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V="1">
                <a:off x="6416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 flipV="1">
                <a:off x="6541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 flipV="1">
                <a:off x="6670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V="1">
                <a:off x="6799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V="1">
                <a:off x="6926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 flipV="1">
                <a:off x="7054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V="1">
                <a:off x="7183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V="1">
                <a:off x="7308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V="1">
                <a:off x="7437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7566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V="1">
                <a:off x="7693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V="1">
                <a:off x="7821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 flipV="1">
                <a:off x="7950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V="1">
                <a:off x="8075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8204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8332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68000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rot="16200000">
                <a:off x="43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rot="16200000">
                <a:off x="566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rot="16200000">
                <a:off x="693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rot="16200000">
                <a:off x="820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rot="16200000">
                <a:off x="9493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rot="16200000">
                <a:off x="1076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rot="16200000">
                <a:off x="1204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rot="16200000">
                <a:off x="1333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rot="16200000">
                <a:off x="1458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rot="16200000">
                <a:off x="1559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rot="16200000">
                <a:off x="168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rot="16200000">
                <a:off x="1814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rot="16200000">
                <a:off x="1943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rot="16200000">
                <a:off x="2073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rot="16200000">
                <a:off x="2198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rot="16200000">
                <a:off x="2327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 rot="16200000">
                <a:off x="2456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rot="16200000">
                <a:off x="2583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rot="16200000">
                <a:off x="2711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rot="16200000">
                <a:off x="2840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rot="16200000">
                <a:off x="296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 rot="16200000">
                <a:off x="3094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rot="16200000">
                <a:off x="3223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rot="16200000">
                <a:off x="3350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rot="16200000">
                <a:off x="3478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16200000">
                <a:off x="3605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rot="16200000">
                <a:off x="3732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rot="16200000">
                <a:off x="3861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rot="16200000">
                <a:off x="3988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rot="16200000">
                <a:off x="4116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rot="16200000">
                <a:off x="4245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rot="16200000">
                <a:off x="4398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rot="16200000">
                <a:off x="45273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rot="16200000">
                <a:off x="46558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rot="16200000">
                <a:off x="4782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rot="16200000">
                <a:off x="49114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 rot="16200000">
                <a:off x="50400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 rot="16200000">
                <a:off x="5165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rot="16200000">
                <a:off x="5294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 rot="16200000">
                <a:off x="5422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 rot="16200000">
                <a:off x="5521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 rot="16200000">
                <a:off x="5650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 rot="16200000">
                <a:off x="5777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 rot="16200000">
                <a:off x="5904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rot="16200000">
                <a:off x="6032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 rot="16200000">
                <a:off x="6161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 rot="16200000">
                <a:off x="6288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 rot="16200000">
                <a:off x="6417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rot="16200000">
                <a:off x="6542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 rot="16200000">
                <a:off x="6671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 rot="16200000">
                <a:off x="6799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 rot="16200000">
                <a:off x="6926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 rot="16200000">
                <a:off x="70552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 rot="16200000">
                <a:off x="71838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rot="16200000">
                <a:off x="73090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rot="16200000">
                <a:off x="74379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rot="16200000">
                <a:off x="75664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rot="16200000">
                <a:off x="76935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rot="16200000">
                <a:off x="78220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rot="16200000">
                <a:off x="79488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rot="16200000">
                <a:off x="80758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rot="16200000">
                <a:off x="8204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539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666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93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922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1049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1177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13064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1433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5606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6891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8162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944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073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200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327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455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25830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6" name=""/>
            <p:cNvSpPr/>
            <p:nvPr/>
          </p:nvSpPr>
          <p:spPr>
            <a:xfrm>
              <a:off x="2711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840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965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094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3222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3349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478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605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732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860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987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116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245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498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627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4754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883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011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137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265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394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521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649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778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04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032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61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288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6416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541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670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799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926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054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183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308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437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566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693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821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7950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8075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8204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38500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31872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83329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3718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8432640" y="3981600"/>
              <a:ext cx="78444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8469360" y="4030560"/>
              <a:ext cx="601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8579160" y="4005360"/>
              <a:ext cx="6163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9-Corrien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113360" y="6297480"/>
              <a:ext cx="27756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416124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4392720" y="6297480"/>
              <a:ext cx="2347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44391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8432640" y="3790800"/>
              <a:ext cx="78444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848052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9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8EB7-448B-4EB1-B434-F8F54F2CA616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D59BB-65AF-424C-8B7F-608BFB9945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3861" name=""/>
          <p:cNvGrpSpPr/>
          <p:nvPr/>
        </p:nvGrpSpPr>
        <p:grpSpPr>
          <a:xfrm>
            <a:off x="-112680" y="895320"/>
            <a:ext cx="9167400" cy="5565960"/>
            <a:chOff x="-112680" y="895320"/>
            <a:chExt cx="9167400" cy="5565960"/>
          </a:xfrm>
        </p:grpSpPr>
        <p:grpSp>
          <p:nvGrpSpPr>
            <p:cNvPr id="3862" name=""/>
            <p:cNvGrpSpPr/>
            <p:nvPr/>
          </p:nvGrpSpPr>
          <p:grpSpPr>
            <a:xfrm>
              <a:off x="25200" y="1235160"/>
              <a:ext cx="8280720" cy="4843440"/>
              <a:chOff x="25200" y="1235160"/>
              <a:chExt cx="8280720" cy="4843440"/>
            </a:xfrm>
          </p:grpSpPr>
          <p:sp>
            <p:nvSpPr>
              <p:cNvPr id="3863" name=""/>
              <p:cNvSpPr/>
              <p:nvPr/>
            </p:nvSpPr>
            <p:spPr>
              <a:xfrm>
                <a:off x="247680" y="1935000"/>
                <a:ext cx="805824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47680" y="602604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247680" y="551484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247680" y="50022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247680" y="44928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247680" y="39798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47680" y="34704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247680" y="29574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247680" y="24462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47680" y="19350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247680" y="1935000"/>
                <a:ext cx="805824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26352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392040" y="5616720"/>
                <a:ext cx="10152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523800" y="5616720"/>
                <a:ext cx="9864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54120" y="5437080"/>
                <a:ext cx="982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78264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912960" y="5743440"/>
                <a:ext cx="9972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0429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17324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303200" y="5616720"/>
                <a:ext cx="9864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432080" y="5105520"/>
                <a:ext cx="10152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563840" y="4824360"/>
                <a:ext cx="98280" cy="944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692360" y="5616720"/>
                <a:ext cx="1000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822320" y="5565600"/>
                <a:ext cx="10008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954080" y="5489640"/>
                <a:ext cx="9864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082960" y="5411880"/>
                <a:ext cx="9972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2212920" y="5514840"/>
                <a:ext cx="9864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2341440" y="5667480"/>
                <a:ext cx="1018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2732040" y="4440240"/>
                <a:ext cx="98640" cy="1328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2862360" y="4056120"/>
                <a:ext cx="100080" cy="1712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29923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312264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3513240" y="5719680"/>
                <a:ext cx="9828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3641760" y="5719680"/>
                <a:ext cx="10008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3902040" y="5719680"/>
                <a:ext cx="10008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681440" y="5641920"/>
                <a:ext cx="10008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941720" y="5692680"/>
                <a:ext cx="1000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5200560" y="5232240"/>
                <a:ext cx="10152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5332320" y="4925880"/>
                <a:ext cx="98640" cy="843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5462640" y="5514840"/>
                <a:ext cx="9828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572292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5851440" y="5386320"/>
                <a:ext cx="100080" cy="382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111720" y="5514840"/>
                <a:ext cx="10008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242040" y="5565600"/>
                <a:ext cx="9828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372360" y="5462640"/>
                <a:ext cx="982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500880" y="5361120"/>
                <a:ext cx="100080" cy="407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630840" y="5437080"/>
                <a:ext cx="1000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761160" y="5514840"/>
                <a:ext cx="10008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689148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715176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281720" y="5591160"/>
                <a:ext cx="9864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540560" y="5308560"/>
                <a:ext cx="100080" cy="460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7672320" y="5565600"/>
                <a:ext cx="9864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80084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931160" y="5437080"/>
                <a:ext cx="982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8059680" y="5386320"/>
                <a:ext cx="101520" cy="382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8191440" y="5641920"/>
                <a:ext cx="9864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4768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1744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1744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1744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1744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1744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1744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1744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1744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1744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47680" y="5769000"/>
                <a:ext cx="8058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 flipV="1">
                <a:off x="24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 flipV="1">
                <a:off x="378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 flipV="1">
                <a:off x="507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 flipV="1">
                <a:off x="638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 flipV="1">
                <a:off x="768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 flipV="1">
                <a:off x="89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 flipV="1">
                <a:off x="1028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 flipV="1">
                <a:off x="115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 flipV="1">
                <a:off x="128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 flipV="1">
                <a:off x="141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 flipV="1">
                <a:off x="154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 flipV="1">
                <a:off x="1677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 flipV="1">
                <a:off x="180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 flipV="1">
                <a:off x="1938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 flipV="1">
                <a:off x="2068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 flipV="1">
                <a:off x="2197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 flipV="1">
                <a:off x="232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 flipV="1">
                <a:off x="245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 flipV="1">
                <a:off x="258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 flipV="1">
                <a:off x="271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 flipV="1">
                <a:off x="284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 flipV="1">
                <a:off x="2978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310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 flipV="1">
                <a:off x="323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 flipV="1">
                <a:off x="3367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 flipV="1">
                <a:off x="349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 flipV="1">
                <a:off x="362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 flipV="1">
                <a:off x="3755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 flipV="1">
                <a:off x="388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 flipV="1">
                <a:off x="401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 flipV="1">
                <a:off x="414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 flipV="1">
                <a:off x="4278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 flipV="1">
                <a:off x="440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 flipV="1">
                <a:off x="4537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 flipV="1">
                <a:off x="4665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V="1">
                <a:off x="479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flipV="1">
                <a:off x="492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 flipV="1">
                <a:off x="505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V="1">
                <a:off x="518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 flipV="1">
                <a:off x="531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 flipV="1">
                <a:off x="544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557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5707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583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5965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095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22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35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48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6615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674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6875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7005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713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7265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739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524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765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778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791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804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8175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8305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51800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4788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8136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8136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8136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8136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8136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520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520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520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 rot="16200000">
                <a:off x="276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 rot="16200000">
                <a:off x="406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 rot="16200000">
                <a:off x="534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 rot="16200000">
                <a:off x="664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 rot="16200000">
                <a:off x="796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 rot="16200000">
                <a:off x="925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 rot="16200000">
                <a:off x="10555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rot="16200000">
                <a:off x="1185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 rot="16200000">
                <a:off x="1315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 rot="16200000">
                <a:off x="141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 rot="16200000">
                <a:off x="1546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 rot="16200000">
                <a:off x="167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 rot="16200000">
                <a:off x="1806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 rot="16200000">
                <a:off x="1937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 rot="16200000">
                <a:off x="2068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 rot="16200000">
                <a:off x="2198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 rot="16200000">
                <a:off x="232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 rot="16200000">
                <a:off x="2457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 rot="16200000">
                <a:off x="2589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 rot="16200000">
                <a:off x="271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 rot="16200000">
                <a:off x="284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 rot="16200000">
                <a:off x="2978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 rot="16200000">
                <a:off x="310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rot="16200000">
                <a:off x="3238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 rot="16200000">
                <a:off x="3367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 rot="16200000">
                <a:off x="3497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rot="16200000">
                <a:off x="3629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rot="16200000">
                <a:off x="375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rot="16200000">
                <a:off x="388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rot="16200000">
                <a:off x="401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 rot="16200000">
                <a:off x="4148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 rot="16200000">
                <a:off x="4306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 rot="16200000">
                <a:off x="4435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 rot="16200000">
                <a:off x="4566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rot="16200000">
                <a:off x="4695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 rot="16200000">
                <a:off x="4825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 rot="16200000">
                <a:off x="4957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 rot="16200000">
                <a:off x="5086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 rot="16200000">
                <a:off x="5216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 rot="16200000">
                <a:off x="5344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 rot="16200000">
                <a:off x="544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 rot="16200000">
                <a:off x="5577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 rot="16200000">
                <a:off x="5707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 rot="16200000">
                <a:off x="5835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 rot="16200000">
                <a:off x="5967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 rot="16200000">
                <a:off x="609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rot="16200000">
                <a:off x="6226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 rot="16200000">
                <a:off x="635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 rot="16200000">
                <a:off x="6488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 rot="16200000">
                <a:off x="6617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 rot="16200000">
                <a:off x="6747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rot="16200000">
                <a:off x="6877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 rot="16200000">
                <a:off x="7007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 rot="16200000">
                <a:off x="71377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 rot="16200000">
                <a:off x="72662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 rot="16200000">
                <a:off x="73980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 rot="16200000">
                <a:off x="75265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 rot="16200000">
                <a:off x="76568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 rot="16200000">
                <a:off x="77886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3" name=""/>
            <p:cNvSpPr/>
            <p:nvPr/>
          </p:nvSpPr>
          <p:spPr>
            <a:xfrm rot="16200000">
              <a:off x="791712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 rot="16200000">
              <a:off x="804744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 rot="16200000">
              <a:off x="817596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78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07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38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768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89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028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157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28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417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547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677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80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938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068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197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327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45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87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71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846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978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106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23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367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497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62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755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3887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4016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14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40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4537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4665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479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4927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05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86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31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46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57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707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837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965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095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22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356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48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615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74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875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005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13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65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39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65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786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7915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8045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8175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25648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5680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4768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83059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2782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8407440" y="3981600"/>
              <a:ext cx="6462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844380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8554680" y="4005360"/>
              <a:ext cx="4183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0-Par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-11268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-6696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189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6792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4768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9628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017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06620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297320" y="6297480"/>
              <a:ext cx="2350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3455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407440" y="3790800"/>
              <a:ext cx="64620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45676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6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A092-ACAE-4FCD-973A-85BD297DEF4E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B0083-6A4E-487C-8CB5-CB91D24F20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7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4148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149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C331B-87A7-49E8-93D4-E2A9D16D0157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257FA-EC08-4E81-B96C-E10CB01481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360" y="154080"/>
            <a:ext cx="61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Barreras – Mayo-Juni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-112680" y="895320"/>
            <a:ext cx="9191880" cy="5565960"/>
            <a:chOff x="-112680" y="895320"/>
            <a:chExt cx="9191880" cy="5565960"/>
          </a:xfrm>
        </p:grpSpPr>
        <p:grpSp>
          <p:nvGrpSpPr>
            <p:cNvPr id="51" name=""/>
            <p:cNvGrpSpPr/>
            <p:nvPr/>
          </p:nvGrpSpPr>
          <p:grpSpPr>
            <a:xfrm>
              <a:off x="247680" y="1498680"/>
              <a:ext cx="7948440" cy="4257720"/>
              <a:chOff x="247680" y="1498680"/>
              <a:chExt cx="7948440" cy="4257720"/>
            </a:xfrm>
          </p:grpSpPr>
          <p:sp>
            <p:nvSpPr>
              <p:cNvPr id="52" name=""/>
              <p:cNvSpPr/>
              <p:nvPr/>
            </p:nvSpPr>
            <p:spPr>
              <a:xfrm>
                <a:off x="247680" y="1498680"/>
                <a:ext cx="7948440" cy="425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47680" y="490392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7680" y="405288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7680" y="320184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7680" y="235116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680" y="149868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7680" y="1498680"/>
                <a:ext cx="7948440" cy="4257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63520" y="5721480"/>
                <a:ext cx="9828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14400" y="5653080"/>
                <a:ext cx="100080" cy="103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4720" y="5567400"/>
                <a:ext cx="99720" cy="189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74680" y="5584680"/>
                <a:ext cx="100080" cy="171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05000" y="5686560"/>
                <a:ext cx="100080" cy="69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34960" y="5738760"/>
                <a:ext cx="1000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95600" y="5738760"/>
                <a:ext cx="10152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55880" y="5703840"/>
                <a:ext cx="101520" cy="52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519360" y="5721480"/>
                <a:ext cx="10188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51120" y="5670720"/>
                <a:ext cx="98640" cy="85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81440" y="5450040"/>
                <a:ext cx="1000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11760" y="5619600"/>
                <a:ext cx="99720" cy="1368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41720" y="5670720"/>
                <a:ext cx="100080" cy="85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72040" y="5721480"/>
                <a:ext cx="10008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02000" y="5346720"/>
                <a:ext cx="100080" cy="409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32320" y="5686560"/>
                <a:ext cx="100080" cy="69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62640" y="5721480"/>
                <a:ext cx="9972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83200" y="5738760"/>
                <a:ext cx="10152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99360" y="5551560"/>
                <a:ext cx="100080" cy="204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429680" y="5637240"/>
                <a:ext cx="99720" cy="119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561440" y="5397480"/>
                <a:ext cx="98280" cy="358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83200" y="5721480"/>
                <a:ext cx="10152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51120" y="5653080"/>
                <a:ext cx="9864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83200" y="5703840"/>
                <a:ext cx="10152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14400" y="5637240"/>
                <a:ext cx="10008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4680" y="5567400"/>
                <a:ext cx="1000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47920" y="5738760"/>
                <a:ext cx="1000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38520" y="5738760"/>
                <a:ext cx="1000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98800" y="5703840"/>
                <a:ext cx="100080" cy="52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130560" y="5721480"/>
                <a:ext cx="9828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59080" y="5637240"/>
                <a:ext cx="101520" cy="119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51120" y="5637240"/>
                <a:ext cx="9864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32320" y="5670720"/>
                <a:ext cx="10008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62640" y="5703840"/>
                <a:ext cx="9972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83200" y="5670720"/>
                <a:ext cx="101520" cy="331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14960" y="5738760"/>
                <a:ext cx="982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35520" y="5721480"/>
                <a:ext cx="10008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039080" y="5584680"/>
                <a:ext cx="100080" cy="1717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69040" y="5143680"/>
                <a:ext cx="100080" cy="6127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99360" y="4903920"/>
                <a:ext cx="100080" cy="64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29680" y="5465880"/>
                <a:ext cx="99720" cy="171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61440" y="5210280"/>
                <a:ext cx="98280" cy="187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50240" y="5533920"/>
                <a:ext cx="101520" cy="222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82000" y="5227560"/>
                <a:ext cx="98280" cy="528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87640" y="5738760"/>
                <a:ext cx="98280" cy="176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17600" y="5738760"/>
                <a:ext cx="100080" cy="176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738520" y="5721480"/>
                <a:ext cx="100080" cy="1728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83200" y="5653080"/>
                <a:ext cx="101520" cy="176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61440" y="5192640"/>
                <a:ext cx="98280" cy="176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27360" y="5499000"/>
                <a:ext cx="98280" cy="25740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47920" y="5670720"/>
                <a:ext cx="100080" cy="680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98800" y="5686560"/>
                <a:ext cx="100080" cy="172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19360" y="5670720"/>
                <a:ext cx="101880" cy="5076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214960" y="5721480"/>
                <a:ext cx="98280" cy="172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45280" y="5721480"/>
                <a:ext cx="99720" cy="349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75240" y="5738760"/>
                <a:ext cx="100080" cy="176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61440" y="5159520"/>
                <a:ext cx="98280" cy="331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14400" y="5619600"/>
                <a:ext cx="1000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05000" y="5637240"/>
                <a:ext cx="100080" cy="493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998800" y="5619600"/>
                <a:ext cx="100080" cy="6696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0560" y="5686560"/>
                <a:ext cx="98280" cy="349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59080" y="5551560"/>
                <a:ext cx="101520" cy="856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0840" y="5738760"/>
                <a:ext cx="9864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22920" y="5738760"/>
                <a:ext cx="10152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83200" y="5637240"/>
                <a:ext cx="10152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45280" y="5686560"/>
                <a:ext cx="99720" cy="349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78800" y="5738760"/>
                <a:ext cx="982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29680" y="5450040"/>
                <a:ext cx="9972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61440" y="5040360"/>
                <a:ext cx="98280" cy="11916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3520" y="5415120"/>
                <a:ext cx="9828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2040" y="5295960"/>
                <a:ext cx="101520" cy="4604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3800" y="5450040"/>
                <a:ext cx="9864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4120" y="5313240"/>
                <a:ext cx="100080" cy="443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4080" y="5262480"/>
                <a:ext cx="100080" cy="493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14400" y="5091120"/>
                <a:ext cx="100080" cy="528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44720" y="5192640"/>
                <a:ext cx="99720" cy="374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74680" y="5057640"/>
                <a:ext cx="100080" cy="509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05000" y="5518080"/>
                <a:ext cx="100080" cy="119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34960" y="5653080"/>
                <a:ext cx="100080" cy="85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720" y="5567400"/>
                <a:ext cx="98640" cy="189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95600" y="5499000"/>
                <a:ext cx="101520" cy="239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7360" y="5295960"/>
                <a:ext cx="98280" cy="2030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55880" y="5584680"/>
                <a:ext cx="101520" cy="119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7640" y="5499000"/>
                <a:ext cx="98280" cy="239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17600" y="5518080"/>
                <a:ext cx="10008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47920" y="5465880"/>
                <a:ext cx="100080" cy="204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78240" y="5450040"/>
                <a:ext cx="9972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08200" y="5602320"/>
                <a:ext cx="100080" cy="154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38520" y="5518080"/>
                <a:ext cx="100080" cy="203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68480" y="5584680"/>
                <a:ext cx="100080" cy="171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98800" y="5143680"/>
                <a:ext cx="100080" cy="475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30560" y="5465880"/>
                <a:ext cx="9828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59080" y="5533920"/>
                <a:ext cx="101520" cy="17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90840" y="5686560"/>
                <a:ext cx="98640" cy="522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19360" y="5465880"/>
                <a:ext cx="101880" cy="204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51120" y="5295960"/>
                <a:ext cx="98640" cy="3412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81440" y="5176800"/>
                <a:ext cx="100080" cy="273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11760" y="5499000"/>
                <a:ext cx="99720" cy="120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41720" y="5465880"/>
                <a:ext cx="100080" cy="204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72040" y="5397480"/>
                <a:ext cx="100080" cy="324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02000" y="4921200"/>
                <a:ext cx="100080" cy="425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32320" y="5313240"/>
                <a:ext cx="100080" cy="357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62640" y="5073480"/>
                <a:ext cx="99720" cy="630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94400" y="5176800"/>
                <a:ext cx="98280" cy="579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22920" y="5415120"/>
                <a:ext cx="101520" cy="323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54680" y="5450040"/>
                <a:ext cx="9828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83200" y="5192640"/>
                <a:ext cx="101520" cy="444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14960" y="5159520"/>
                <a:ext cx="98280" cy="561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45280" y="5245200"/>
                <a:ext cx="99720" cy="441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75240" y="5262480"/>
                <a:ext cx="100080" cy="4762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05560" y="5483160"/>
                <a:ext cx="100080" cy="273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35520" y="5159520"/>
                <a:ext cx="100080" cy="561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5840" y="5533920"/>
                <a:ext cx="100080" cy="222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97600" y="5518080"/>
                <a:ext cx="98280" cy="238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26120" y="5465880"/>
                <a:ext cx="100080" cy="290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57880" y="5313240"/>
                <a:ext cx="98640" cy="443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86400" y="5465880"/>
                <a:ext cx="101880" cy="290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18160" y="5295960"/>
                <a:ext cx="98640" cy="4604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47040" y="5721480"/>
                <a:ext cx="101520" cy="34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778800" y="5227560"/>
                <a:ext cx="98280" cy="5112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08760" y="5380200"/>
                <a:ext cx="100080" cy="3762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39080" y="5176800"/>
                <a:ext cx="100080" cy="4078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69040" y="4971960"/>
                <a:ext cx="100080" cy="171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99360" y="4579920"/>
                <a:ext cx="100080" cy="324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29680" y="5108400"/>
                <a:ext cx="99720" cy="341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61440" y="4632480"/>
                <a:ext cx="98280" cy="4078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89960" y="5686560"/>
                <a:ext cx="100080" cy="69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21720" y="5703840"/>
                <a:ext cx="98280" cy="525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50240" y="5108400"/>
                <a:ext cx="101520" cy="425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82000" y="4718160"/>
                <a:ext cx="98280" cy="509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27360" y="5278320"/>
                <a:ext cx="98280" cy="176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47920" y="5432400"/>
                <a:ext cx="100080" cy="334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81440" y="5159520"/>
                <a:ext cx="100080" cy="172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302000" y="4886280"/>
                <a:ext cx="100080" cy="349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2640" y="5040360"/>
                <a:ext cx="9972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39080" y="5159520"/>
                <a:ext cx="100080" cy="172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69040" y="4938840"/>
                <a:ext cx="10008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4120" y="5227560"/>
                <a:ext cx="100080" cy="856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4080" y="5126040"/>
                <a:ext cx="100080" cy="1364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14400" y="5040360"/>
                <a:ext cx="100080" cy="50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44720" y="5176800"/>
                <a:ext cx="9972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74680" y="5040360"/>
                <a:ext cx="100080" cy="17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305000" y="5499000"/>
                <a:ext cx="100080" cy="190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66720" y="5518080"/>
                <a:ext cx="98640" cy="493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95600" y="5295960"/>
                <a:ext cx="101520" cy="2030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27360" y="5005440"/>
                <a:ext cx="98280" cy="2728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55880" y="5567400"/>
                <a:ext cx="101520" cy="17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87640" y="5483160"/>
                <a:ext cx="9828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32320" y="5278320"/>
                <a:ext cx="100080" cy="34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14960" y="5091120"/>
                <a:ext cx="98280" cy="684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35520" y="5108400"/>
                <a:ext cx="100080" cy="51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39080" y="5143680"/>
                <a:ext cx="10008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299360" y="4564080"/>
                <a:ext cx="10008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44720" y="5126040"/>
                <a:ext cx="99720" cy="507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55880" y="5533920"/>
                <a:ext cx="101520" cy="334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087640" y="5465880"/>
                <a:ext cx="9828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17600" y="5465880"/>
                <a:ext cx="100080" cy="52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14960" y="5057640"/>
                <a:ext cx="98280" cy="334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05560" y="5450040"/>
                <a:ext cx="100080" cy="33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429680" y="5091120"/>
                <a:ext cx="9972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50240" y="5091120"/>
                <a:ext cx="10152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55880" y="5518080"/>
                <a:ext cx="101520" cy="158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87640" y="5024520"/>
                <a:ext cx="98280" cy="4413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17600" y="5364000"/>
                <a:ext cx="100080" cy="1018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347920" y="5330880"/>
                <a:ext cx="100080" cy="1015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82000" y="4699080"/>
                <a:ext cx="98280" cy="190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27360" y="4989600"/>
                <a:ext cx="982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87640" y="4921200"/>
                <a:ext cx="98280" cy="1033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08200" y="5551560"/>
                <a:ext cx="100080" cy="507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8480" y="5567400"/>
                <a:ext cx="100080" cy="172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998800" y="5126040"/>
                <a:ext cx="10008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130560" y="5346720"/>
                <a:ext cx="98280" cy="1191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59080" y="5432400"/>
                <a:ext cx="101520" cy="1015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90840" y="5602320"/>
                <a:ext cx="98640" cy="842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19360" y="5397480"/>
                <a:ext cx="101880" cy="684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1120" y="5278320"/>
                <a:ext cx="9864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81440" y="5143680"/>
                <a:ext cx="1000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11760" y="5227560"/>
                <a:ext cx="99720" cy="2714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32320" y="5262480"/>
                <a:ext cx="1000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62640" y="5024520"/>
                <a:ext cx="9972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86400" y="5450040"/>
                <a:ext cx="1018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78800" y="5108400"/>
                <a:ext cx="98280" cy="1191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08760" y="5295960"/>
                <a:ext cx="100080" cy="842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69040" y="4836960"/>
                <a:ext cx="100080" cy="1018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61440" y="4614840"/>
                <a:ext cx="9828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89960" y="5670720"/>
                <a:ext cx="1000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21720" y="5670720"/>
                <a:ext cx="982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50240" y="4921200"/>
                <a:ext cx="101520" cy="169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82000" y="4683240"/>
                <a:ext cx="982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4080" y="5091120"/>
                <a:ext cx="100080" cy="3492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4400" y="5024520"/>
                <a:ext cx="100080" cy="1584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62640" y="5005440"/>
                <a:ext cx="99720" cy="1908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3520" y="5192640"/>
                <a:ext cx="98280" cy="2224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63520" y="4257720"/>
              <a:ext cx="7916760" cy="1463760"/>
              <a:chOff x="263520" y="4257720"/>
              <a:chExt cx="7916760" cy="1463760"/>
            </a:xfrm>
          </p:grpSpPr>
          <p:sp>
            <p:nvSpPr>
              <p:cNvPr id="253" name=""/>
              <p:cNvSpPr/>
              <p:nvPr/>
            </p:nvSpPr>
            <p:spPr>
              <a:xfrm>
                <a:off x="392040" y="5057640"/>
                <a:ext cx="101520" cy="2383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3800" y="5278320"/>
                <a:ext cx="98640" cy="1717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4120" y="5210280"/>
                <a:ext cx="100080" cy="172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87640" y="4870440"/>
                <a:ext cx="98280" cy="5076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17600" y="5330880"/>
                <a:ext cx="100080" cy="331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08200" y="5533920"/>
                <a:ext cx="100080" cy="176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98800" y="5091120"/>
                <a:ext cx="100080" cy="349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72040" y="5380200"/>
                <a:ext cx="100080" cy="172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62640" y="4989600"/>
                <a:ext cx="99720" cy="158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14960" y="5040360"/>
                <a:ext cx="98280" cy="172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45280" y="5227560"/>
                <a:ext cx="99720" cy="176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65840" y="5518080"/>
                <a:ext cx="100080" cy="158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57880" y="5262480"/>
                <a:ext cx="98640" cy="5076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62640" y="4971960"/>
                <a:ext cx="99720" cy="17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74680" y="5024520"/>
                <a:ext cx="100080" cy="158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62640" y="4956120"/>
                <a:ext cx="99720" cy="158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94400" y="5143680"/>
                <a:ext cx="98280" cy="331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45280" y="5159520"/>
                <a:ext cx="99720" cy="680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05560" y="5159520"/>
                <a:ext cx="100080" cy="290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35520" y="5073480"/>
                <a:ext cx="10008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47040" y="5670720"/>
                <a:ext cx="101520" cy="507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29680" y="5073480"/>
                <a:ext cx="9972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950240" y="4886280"/>
                <a:ext cx="10152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305000" y="5380200"/>
                <a:ext cx="100080" cy="118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87640" y="4853160"/>
                <a:ext cx="982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81440" y="5126040"/>
                <a:ext cx="1000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02000" y="4784760"/>
                <a:ext cx="100080" cy="101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32320" y="4971960"/>
                <a:ext cx="100080" cy="290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62640" y="4938840"/>
                <a:ext cx="9972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75240" y="5245200"/>
                <a:ext cx="1000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05560" y="5143680"/>
                <a:ext cx="10008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8160" y="5278320"/>
                <a:ext cx="9864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169040" y="4802040"/>
                <a:ext cx="10008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29680" y="5057640"/>
                <a:ext cx="9972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27360" y="4853160"/>
                <a:ext cx="98280" cy="1364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5880" y="5397480"/>
                <a:ext cx="101520" cy="12060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87640" y="4767120"/>
                <a:ext cx="98280" cy="86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08200" y="5499000"/>
                <a:ext cx="100080" cy="349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32320" y="4956120"/>
                <a:ext cx="100080" cy="15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83200" y="5176800"/>
                <a:ext cx="101520" cy="15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5240" y="5192640"/>
                <a:ext cx="100080" cy="525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5840" y="5415120"/>
                <a:ext cx="100080" cy="1029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97600" y="5432400"/>
                <a:ext cx="98280" cy="856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126120" y="5450040"/>
                <a:ext cx="100080" cy="15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18160" y="5176800"/>
                <a:ext cx="98640" cy="101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47040" y="5499000"/>
                <a:ext cx="101520" cy="171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69040" y="4767120"/>
                <a:ext cx="100080" cy="349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821720" y="5653080"/>
                <a:ext cx="98280" cy="17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75240" y="5159520"/>
                <a:ext cx="100080" cy="331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05560" y="5108400"/>
                <a:ext cx="100080" cy="352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35520" y="5057640"/>
                <a:ext cx="100080" cy="158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26120" y="5432400"/>
                <a:ext cx="100080" cy="17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57880" y="5227560"/>
                <a:ext cx="98640" cy="3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86400" y="5397480"/>
                <a:ext cx="101880" cy="525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18160" y="5126040"/>
                <a:ext cx="98640" cy="507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47040" y="5465880"/>
                <a:ext cx="101520" cy="331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39080" y="5108400"/>
                <a:ext cx="100080" cy="352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69040" y="4751280"/>
                <a:ext cx="100080" cy="158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429680" y="5040360"/>
                <a:ext cx="99720" cy="172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89960" y="5653080"/>
                <a:ext cx="100080" cy="17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94400" y="5126040"/>
                <a:ext cx="98280" cy="17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22920" y="5397480"/>
                <a:ext cx="101520" cy="17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86400" y="5364000"/>
                <a:ext cx="101880" cy="334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14960" y="5005440"/>
                <a:ext cx="982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561440" y="4579920"/>
                <a:ext cx="982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520" y="5159520"/>
                <a:ext cx="98280" cy="331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44720" y="5108400"/>
                <a:ext cx="9972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566720" y="5483160"/>
                <a:ext cx="9864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695600" y="5262480"/>
                <a:ext cx="10152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7360" y="4819680"/>
                <a:ext cx="9828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087640" y="4751280"/>
                <a:ext cx="9828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08200" y="5483160"/>
                <a:ext cx="10008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38520" y="5499000"/>
                <a:ext cx="100080" cy="190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868480" y="5533920"/>
                <a:ext cx="10008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90840" y="5567400"/>
                <a:ext cx="9864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19360" y="5024520"/>
                <a:ext cx="101880" cy="3729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51120" y="5108400"/>
                <a:ext cx="98640" cy="169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81440" y="4853160"/>
                <a:ext cx="100080" cy="2728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02000" y="4767120"/>
                <a:ext cx="10008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32320" y="4921200"/>
                <a:ext cx="10008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62640" y="4903920"/>
                <a:ext cx="9972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94400" y="5073480"/>
                <a:ext cx="98280" cy="525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22920" y="5364000"/>
                <a:ext cx="10152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54680" y="5397480"/>
                <a:ext cx="98280" cy="525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5280" y="5091120"/>
                <a:ext cx="99720" cy="6840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75240" y="5073480"/>
                <a:ext cx="100080" cy="86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05560" y="5057640"/>
                <a:ext cx="100080" cy="507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35520" y="4989600"/>
                <a:ext cx="100080" cy="68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57880" y="5176800"/>
                <a:ext cx="98640" cy="507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86400" y="5262480"/>
                <a:ext cx="101880" cy="1015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518160" y="5108400"/>
                <a:ext cx="9864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47040" y="5380200"/>
                <a:ext cx="101520" cy="856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78800" y="5091120"/>
                <a:ext cx="9828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08760" y="5245200"/>
                <a:ext cx="100080" cy="507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39080" y="5073480"/>
                <a:ext cx="10008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69040" y="4683240"/>
                <a:ext cx="100080" cy="68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99360" y="4462560"/>
                <a:ext cx="100080" cy="1015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29680" y="5024520"/>
                <a:ext cx="9972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561440" y="4511520"/>
                <a:ext cx="98280" cy="6840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950240" y="4853160"/>
                <a:ext cx="101520" cy="331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082000" y="4614840"/>
                <a:ext cx="98280" cy="6840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14400" y="5005440"/>
                <a:ext cx="100080" cy="190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44720" y="5091120"/>
                <a:ext cx="9972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87640" y="4734000"/>
                <a:ext cx="9828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17600" y="5313240"/>
                <a:ext cx="100080" cy="176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47920" y="5295960"/>
                <a:ext cx="100080" cy="34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38520" y="5483160"/>
                <a:ext cx="100080" cy="158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81440" y="4836960"/>
                <a:ext cx="100080" cy="1620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562640" y="4886280"/>
                <a:ext cx="99720" cy="176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54680" y="5313240"/>
                <a:ext cx="98280" cy="842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14960" y="4971960"/>
                <a:ext cx="98280" cy="334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45280" y="5073480"/>
                <a:ext cx="99720" cy="176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75240" y="5040360"/>
                <a:ext cx="100080" cy="33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35520" y="4956120"/>
                <a:ext cx="100080" cy="334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86400" y="5245200"/>
                <a:ext cx="10188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18160" y="5091120"/>
                <a:ext cx="9864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69040" y="4632480"/>
                <a:ext cx="100080" cy="507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99360" y="4427640"/>
                <a:ext cx="100080" cy="34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561440" y="4444920"/>
                <a:ext cx="98280" cy="6660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950240" y="4836960"/>
                <a:ext cx="101520" cy="1620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98800" y="5057640"/>
                <a:ext cx="100080" cy="334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45280" y="5057640"/>
                <a:ext cx="9972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475240" y="5005440"/>
                <a:ext cx="100080" cy="349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47040" y="5364000"/>
                <a:ext cx="101520" cy="1620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29680" y="4989600"/>
                <a:ext cx="99720" cy="349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4120" y="4989600"/>
                <a:ext cx="100080" cy="2206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44720" y="5040360"/>
                <a:ext cx="99720" cy="507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74680" y="5005440"/>
                <a:ext cx="100080" cy="190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27360" y="4802040"/>
                <a:ext cx="98280" cy="176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519360" y="4971960"/>
                <a:ext cx="101880" cy="525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41720" y="5450040"/>
                <a:ext cx="100080" cy="158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45280" y="5024520"/>
                <a:ext cx="99720" cy="331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475240" y="4971960"/>
                <a:ext cx="100080" cy="334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08760" y="5176800"/>
                <a:ext cx="100080" cy="6840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99360" y="4410000"/>
                <a:ext cx="100080" cy="176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082000" y="4597560"/>
                <a:ext cx="98280" cy="172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34960" y="5619600"/>
                <a:ext cx="100080" cy="334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478240" y="5415120"/>
                <a:ext cx="99720" cy="349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98800" y="5024520"/>
                <a:ext cx="100080" cy="331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30560" y="5330880"/>
                <a:ext cx="98280" cy="1584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62640" y="4870440"/>
                <a:ext cx="99720" cy="1584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2920" y="5330880"/>
                <a:ext cx="101520" cy="331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214960" y="4938840"/>
                <a:ext cx="98280" cy="331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45280" y="4971960"/>
                <a:ext cx="99720" cy="5256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4960" y="5567400"/>
                <a:ext cx="100080" cy="522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08200" y="5465880"/>
                <a:ext cx="100080" cy="17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214960" y="4921200"/>
                <a:ext cx="98280" cy="176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99360" y="4376880"/>
                <a:ext cx="100080" cy="331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34960" y="5533920"/>
                <a:ext cx="100080" cy="334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87640" y="4699080"/>
                <a:ext cx="98280" cy="3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738520" y="5465880"/>
                <a:ext cx="100080" cy="17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32320" y="4649760"/>
                <a:ext cx="100080" cy="2714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14960" y="4903920"/>
                <a:ext cx="98280" cy="17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735520" y="4938840"/>
                <a:ext cx="100080" cy="17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27360" y="4784760"/>
                <a:ext cx="98280" cy="172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083200" y="5159520"/>
                <a:ext cx="101520" cy="172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61440" y="4427640"/>
                <a:ext cx="98280" cy="172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3520" y="5143680"/>
                <a:ext cx="98280" cy="1584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4080" y="5057640"/>
                <a:ext cx="100080" cy="334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44720" y="5024520"/>
                <a:ext cx="99720" cy="1584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34960" y="5499000"/>
                <a:ext cx="100080" cy="3492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5520" y="4921200"/>
                <a:ext cx="100080" cy="1764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61440" y="4410000"/>
                <a:ext cx="98280" cy="1764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3800" y="5262480"/>
                <a:ext cx="98640" cy="158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4120" y="4971960"/>
                <a:ext cx="100080" cy="176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34960" y="5465880"/>
                <a:ext cx="100080" cy="331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98800" y="5005440"/>
                <a:ext cx="100080" cy="190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35520" y="4784760"/>
                <a:ext cx="100080" cy="136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299360" y="4257720"/>
                <a:ext cx="100080" cy="119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29680" y="4853160"/>
                <a:ext cx="99720" cy="136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34960" y="5432400"/>
                <a:ext cx="1000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30560" y="5295960"/>
                <a:ext cx="98280" cy="349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65840" y="5380200"/>
                <a:ext cx="100080" cy="349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08200" y="5450040"/>
                <a:ext cx="100080" cy="158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45280" y="4903920"/>
                <a:ext cx="99720" cy="680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35520" y="4718160"/>
                <a:ext cx="100080" cy="6660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86400" y="5227560"/>
                <a:ext cx="101880" cy="176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908760" y="5143680"/>
                <a:ext cx="100080" cy="3312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61440" y="4392720"/>
                <a:ext cx="9828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55880" y="5380200"/>
                <a:ext cx="101520" cy="172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98800" y="4989600"/>
                <a:ext cx="100080" cy="158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72040" y="5364000"/>
                <a:ext cx="100080" cy="1620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18160" y="5073480"/>
                <a:ext cx="98640" cy="176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72040" y="5346720"/>
                <a:ext cx="100080" cy="1728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86400" y="4956120"/>
                <a:ext cx="101880" cy="2714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34960" y="5380200"/>
                <a:ext cx="100080" cy="522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827360" y="4632480"/>
                <a:ext cx="98280" cy="152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87640" y="4683240"/>
                <a:ext cx="98280" cy="158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68480" y="5483160"/>
                <a:ext cx="100080" cy="5076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998800" y="4956120"/>
                <a:ext cx="100080" cy="334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0560" y="5159520"/>
                <a:ext cx="98280" cy="1364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259080" y="5415120"/>
                <a:ext cx="10152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90840" y="5518080"/>
                <a:ext cx="98640" cy="493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19360" y="4938840"/>
                <a:ext cx="101880" cy="331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041720" y="5397480"/>
                <a:ext cx="100080" cy="5256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72040" y="5313240"/>
                <a:ext cx="100080" cy="334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345280" y="4886280"/>
                <a:ext cx="99720" cy="176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05560" y="4886280"/>
                <a:ext cx="100080" cy="17136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35520" y="4683240"/>
                <a:ext cx="100080" cy="349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65840" y="5346720"/>
                <a:ext cx="100080" cy="334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4480" y="1498680"/>
              <a:ext cx="8171640" cy="4310280"/>
              <a:chOff x="24480" y="1498680"/>
              <a:chExt cx="8171640" cy="4310280"/>
            </a:xfrm>
          </p:grpSpPr>
          <p:sp>
            <p:nvSpPr>
              <p:cNvPr id="454" name=""/>
              <p:cNvSpPr/>
              <p:nvPr/>
            </p:nvSpPr>
            <p:spPr>
              <a:xfrm>
                <a:off x="6126120" y="5415120"/>
                <a:ext cx="10008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47040" y="5330880"/>
                <a:ext cx="101520" cy="331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39080" y="5024520"/>
                <a:ext cx="100080" cy="4896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950240" y="4767120"/>
                <a:ext cx="101520" cy="698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4120" y="4938840"/>
                <a:ext cx="100080" cy="331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74680" y="4989600"/>
                <a:ext cx="100080" cy="158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566720" y="5380200"/>
                <a:ext cx="98640" cy="1029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95600" y="5192640"/>
                <a:ext cx="101520" cy="698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827360" y="4290840"/>
                <a:ext cx="98280" cy="341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55880" y="5126040"/>
                <a:ext cx="101520" cy="2541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87640" y="4205160"/>
                <a:ext cx="98280" cy="4780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17600" y="5245200"/>
                <a:ext cx="100080" cy="680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78240" y="5397480"/>
                <a:ext cx="9972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608200" y="5262480"/>
                <a:ext cx="100080" cy="1875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38520" y="5245200"/>
                <a:ext cx="100080" cy="2206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68480" y="5330880"/>
                <a:ext cx="100080" cy="152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98800" y="4802040"/>
                <a:ext cx="100080" cy="1540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51120" y="5091120"/>
                <a:ext cx="9864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11760" y="5210280"/>
                <a:ext cx="9972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41720" y="5380200"/>
                <a:ext cx="10008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72040" y="5295960"/>
                <a:ext cx="10008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302000" y="4665600"/>
                <a:ext cx="100080" cy="1015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4960" y="4886280"/>
                <a:ext cx="982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75240" y="4956120"/>
                <a:ext cx="100080" cy="158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997600" y="5192640"/>
                <a:ext cx="98280" cy="2397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26120" y="5126040"/>
                <a:ext cx="100080" cy="2890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18160" y="5005440"/>
                <a:ext cx="98640" cy="680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29680" y="4751280"/>
                <a:ext cx="99720" cy="1018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21720" y="5483160"/>
                <a:ext cx="98280" cy="1699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50240" y="4070520"/>
                <a:ext cx="101520" cy="6966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082000" y="4530600"/>
                <a:ext cx="98280" cy="669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34960" y="5364000"/>
                <a:ext cx="100080" cy="162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55880" y="5091120"/>
                <a:ext cx="101520" cy="349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68480" y="5227560"/>
                <a:ext cx="100080" cy="1033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62640" y="4836960"/>
                <a:ext cx="99720" cy="334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83200" y="5143680"/>
                <a:ext cx="101520" cy="158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735520" y="4632480"/>
                <a:ext cx="100080" cy="5076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18160" y="4956120"/>
                <a:ext cx="98640" cy="493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92040" y="5024520"/>
                <a:ext cx="101520" cy="33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3800" y="5245200"/>
                <a:ext cx="9864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120" y="4921200"/>
                <a:ext cx="10008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914400" y="4971960"/>
                <a:ext cx="100080" cy="334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044720" y="4956120"/>
                <a:ext cx="99720" cy="6840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74680" y="4802040"/>
                <a:ext cx="100080" cy="1875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5000" y="5295960"/>
                <a:ext cx="100080" cy="84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434960" y="5313240"/>
                <a:ext cx="100080" cy="507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566720" y="5245200"/>
                <a:ext cx="98640" cy="13500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95600" y="5126040"/>
                <a:ext cx="101520" cy="6660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55880" y="5073480"/>
                <a:ext cx="1015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68480" y="5126040"/>
                <a:ext cx="100080" cy="1015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51120" y="5073480"/>
                <a:ext cx="9864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81440" y="4767120"/>
                <a:ext cx="100080" cy="69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911760" y="5192640"/>
                <a:ext cx="997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02000" y="4649760"/>
                <a:ext cx="1000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62640" y="4802040"/>
                <a:ext cx="99720" cy="349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94400" y="5024520"/>
                <a:ext cx="98280" cy="489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22920" y="5313240"/>
                <a:ext cx="1015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083200" y="5126040"/>
                <a:ext cx="1015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47040" y="5313240"/>
                <a:ext cx="1015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39080" y="5005440"/>
                <a:ext cx="100080" cy="190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561440" y="4359240"/>
                <a:ext cx="98280" cy="334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2040" y="5005440"/>
                <a:ext cx="10152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044720" y="4886280"/>
                <a:ext cx="99720" cy="69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74680" y="476712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695600" y="5108400"/>
                <a:ext cx="10152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27360" y="4273560"/>
                <a:ext cx="982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955880" y="5057640"/>
                <a:ext cx="10152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087640" y="4156200"/>
                <a:ext cx="98280" cy="4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68480" y="5024520"/>
                <a:ext cx="100080" cy="101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519360" y="4921200"/>
                <a:ext cx="10188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51120" y="5057640"/>
                <a:ext cx="9864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911760" y="5176800"/>
                <a:ext cx="9972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02000" y="4632480"/>
                <a:ext cx="1000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32320" y="4597560"/>
                <a:ext cx="100080" cy="52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62640" y="4734000"/>
                <a:ext cx="99720" cy="68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94400" y="4989600"/>
                <a:ext cx="982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3200" y="5108400"/>
                <a:ext cx="10152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214960" y="4870440"/>
                <a:ext cx="982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75240" y="492120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05560" y="4870440"/>
                <a:ext cx="1000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735520" y="459756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5840" y="5313240"/>
                <a:ext cx="100080" cy="33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386400" y="4921200"/>
                <a:ext cx="1018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47040" y="5295960"/>
                <a:ext cx="10152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78800" y="5057640"/>
                <a:ext cx="98280" cy="33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39080" y="4956120"/>
                <a:ext cx="100080" cy="49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169040" y="459756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99360" y="4189320"/>
                <a:ext cx="100080" cy="68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561440" y="4343400"/>
                <a:ext cx="982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89960" y="5637240"/>
                <a:ext cx="1000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082000" y="4511520"/>
                <a:ext cx="9828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29680" y="4734000"/>
                <a:ext cx="99720" cy="17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561440" y="4325760"/>
                <a:ext cx="98280" cy="1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89960" y="5619600"/>
                <a:ext cx="100080" cy="1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082000" y="4392720"/>
                <a:ext cx="98280" cy="11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14400" y="4956120"/>
                <a:ext cx="100080" cy="15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087640" y="4119480"/>
                <a:ext cx="98280" cy="36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11760" y="5143680"/>
                <a:ext cx="99720" cy="331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54680" y="5295960"/>
                <a:ext cx="9828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47040" y="5278320"/>
                <a:ext cx="10152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63520" y="5108400"/>
                <a:ext cx="98280" cy="352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54120" y="4903920"/>
                <a:ext cx="100080" cy="172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14400" y="4921200"/>
                <a:ext cx="10008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74680" y="4665600"/>
                <a:ext cx="100080" cy="1015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66720" y="5210280"/>
                <a:ext cx="9864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827360" y="4240080"/>
                <a:ext cx="9828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87640" y="3984480"/>
                <a:ext cx="98280" cy="1350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478240" y="5313240"/>
                <a:ext cx="99720" cy="842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519360" y="4870440"/>
                <a:ext cx="101880" cy="50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81440" y="4751280"/>
                <a:ext cx="100080" cy="158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11760" y="5126040"/>
                <a:ext cx="9972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0" y="4597560"/>
                <a:ext cx="10008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432320" y="4546440"/>
                <a:ext cx="100080" cy="51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94400" y="4971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54680" y="527832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214960" y="4836960"/>
                <a:ext cx="9828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605560" y="4802040"/>
                <a:ext cx="100080" cy="684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257880" y="5126040"/>
                <a:ext cx="98640" cy="50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18160" y="4921200"/>
                <a:ext cx="9864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47040" y="5245200"/>
                <a:ext cx="101520" cy="33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169040" y="4376880"/>
                <a:ext cx="100080" cy="2206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99360" y="4156200"/>
                <a:ext cx="100080" cy="33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29680" y="4683240"/>
                <a:ext cx="99720" cy="50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950240" y="4037040"/>
                <a:ext cx="10152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82000" y="4359240"/>
                <a:ext cx="9828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7680" y="1498680"/>
                <a:ext cx="0" cy="425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7440" y="5756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17440" y="490392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17440" y="405288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7440" y="3201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7440" y="235116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7440" y="149868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7680" y="5756400"/>
                <a:ext cx="7948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47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378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07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38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770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898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030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1158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1290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1419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550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1681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811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1941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071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2017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3335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2462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593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22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2854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982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3114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3244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3375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3505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3635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765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8973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025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41576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286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4179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4546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4678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48085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4938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5068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5199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53290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460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589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721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5850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9817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111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242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63723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502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66326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762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68929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7024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7153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7284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7413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75452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7675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7805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7935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8066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8196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6440" y="5694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1360" y="4843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480" y="399240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480" y="313992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4480" y="228924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4480" y="1328760"/>
              <a:ext cx="9054720" cy="4813200"/>
              <a:chOff x="24480" y="1328760"/>
              <a:chExt cx="9054720" cy="4813200"/>
            </a:xfrm>
          </p:grpSpPr>
          <p:sp>
            <p:nvSpPr>
              <p:cNvPr id="655" name=""/>
              <p:cNvSpPr/>
              <p:nvPr/>
            </p:nvSpPr>
            <p:spPr>
              <a:xfrm>
                <a:off x="24480" y="143820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6200000">
                <a:off x="27468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6200000">
                <a:off x="40464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53496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6200000">
                <a:off x="66492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6200000">
                <a:off x="79668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6200000">
                <a:off x="92520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200000">
                <a:off x="105732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200000">
                <a:off x="118584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6200000">
                <a:off x="131760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6200000">
                <a:off x="14180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6200000">
                <a:off x="154980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200000">
                <a:off x="167976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200000">
                <a:off x="181008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200000">
                <a:off x="19418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200000">
                <a:off x="207360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200000">
                <a:off x="220392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00000">
                <a:off x="233568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200000">
                <a:off x="246420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200000">
                <a:off x="259596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6200000">
                <a:off x="272448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6200000">
                <a:off x="28562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6200000">
                <a:off x="298476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6200000">
                <a:off x="311652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6200000">
                <a:off x="32468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6200000">
                <a:off x="33768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6200000">
                <a:off x="35071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6200000">
                <a:off x="36374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6200000">
                <a:off x="37674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6200000">
                <a:off x="38991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6200000">
                <a:off x="402768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6200000">
                <a:off x="41594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6200000">
                <a:off x="431640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6200000">
                <a:off x="444636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6200000">
                <a:off x="457668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6200000">
                <a:off x="470664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6200000">
                <a:off x="483840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6200000">
                <a:off x="496728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6200000">
                <a:off x="509904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200000">
                <a:off x="522756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6200000">
                <a:off x="535932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6200000">
                <a:off x="54612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200000">
                <a:off x="55915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6200000">
                <a:off x="57218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6200000">
                <a:off x="58503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6200000">
                <a:off x="59821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200000">
                <a:off x="611208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6200000">
                <a:off x="62424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6200000">
                <a:off x="63741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6200000">
                <a:off x="650268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6200000">
                <a:off x="66344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200000">
                <a:off x="676296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6200000">
                <a:off x="689472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200000">
                <a:off x="70250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6200000">
                <a:off x="715536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6200000">
                <a:off x="728532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200000">
                <a:off x="741564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6200000">
                <a:off x="754560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6200000">
                <a:off x="767592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6200000">
                <a:off x="780624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6200000">
                <a:off x="793800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200000">
                <a:off x="806652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78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07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382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0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85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030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58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290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4191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550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81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8111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941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0718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2017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335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62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5938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22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8544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82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114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244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375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05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6352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765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973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25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1576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4179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5464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78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8085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938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0688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1991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290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460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89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21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50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9817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111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42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3723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02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6326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762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8929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24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153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284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413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452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55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805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935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0661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260440" y="60166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235560" y="60166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47680" y="5756400"/>
                <a:ext cx="0" cy="38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196120" y="5756400"/>
                <a:ext cx="0" cy="38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286160" y="5756400"/>
                <a:ext cx="0" cy="38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296200" y="1328760"/>
                <a:ext cx="757440" cy="4761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323200" y="1360440"/>
                <a:ext cx="3348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380080" y="1347840"/>
                <a:ext cx="4197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6-Pueyrredo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323200" y="1468440"/>
                <a:ext cx="33480" cy="334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380080" y="1455840"/>
                <a:ext cx="3693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5-Rivadavi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323200" y="1576440"/>
                <a:ext cx="3348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380800" y="1563840"/>
                <a:ext cx="2642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4-Irigoi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323200" y="1684440"/>
                <a:ext cx="33480" cy="3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380440" y="1673280"/>
                <a:ext cx="541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3-Bartolome Mitr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323200" y="1792440"/>
                <a:ext cx="33480" cy="349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380800" y="1781280"/>
                <a:ext cx="2264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2-Itali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323200" y="1901880"/>
                <a:ext cx="33480" cy="331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381160" y="1889280"/>
                <a:ext cx="309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1-Cones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323200" y="2009880"/>
                <a:ext cx="33480" cy="331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382600" y="1996920"/>
                <a:ext cx="2613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0-Pard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323200" y="2117880"/>
                <a:ext cx="33480" cy="331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380080" y="2104920"/>
                <a:ext cx="3848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9-Corriente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323200" y="2225520"/>
                <a:ext cx="33480" cy="3348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379000" y="2212920"/>
                <a:ext cx="3985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8-Sourdeaux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323200" y="2333520"/>
                <a:ext cx="33480" cy="334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379720" y="2322360"/>
                <a:ext cx="399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7-San Marti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323200" y="2441520"/>
                <a:ext cx="33480" cy="3492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378280" y="2430360"/>
                <a:ext cx="640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6-Av. Senador Moro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23200" y="2550960"/>
                <a:ext cx="334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379360" y="2538360"/>
                <a:ext cx="451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5-Gral Villega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323200" y="2658960"/>
                <a:ext cx="33480" cy="334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379360" y="2646360"/>
                <a:ext cx="4273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4-Granadero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323200" y="2766960"/>
                <a:ext cx="33480" cy="334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380080" y="2754360"/>
                <a:ext cx="352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2-Jaurech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323200" y="2874960"/>
                <a:ext cx="33480" cy="334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382240" y="2862360"/>
                <a:ext cx="4381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1-Niceto Veg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323200" y="2982960"/>
                <a:ext cx="33480" cy="331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382240" y="2971800"/>
                <a:ext cx="37728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1-Necoche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323200" y="3090960"/>
                <a:ext cx="33480" cy="3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379360" y="3079800"/>
                <a:ext cx="5828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0-Benigno Ocamp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323200" y="3200400"/>
                <a:ext cx="33480" cy="334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379360" y="3187800"/>
                <a:ext cx="5371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9-Gral. Rodriguez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323200" y="3308400"/>
                <a:ext cx="33480" cy="331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380440" y="3295800"/>
                <a:ext cx="3495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8-Matienz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323200" y="3416400"/>
                <a:ext cx="33480" cy="331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375760" y="3403440"/>
                <a:ext cx="7034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7-Boulevard San Marti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323200" y="3524400"/>
                <a:ext cx="33480" cy="33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379360" y="3511440"/>
                <a:ext cx="4532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6-Gral. Horno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323200" y="3632040"/>
                <a:ext cx="3348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376480" y="3621240"/>
                <a:ext cx="6606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5-Lisandro de la Torr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323200" y="3740040"/>
                <a:ext cx="334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381160" y="3728880"/>
                <a:ext cx="43668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4-Av. Americ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323200" y="3849840"/>
                <a:ext cx="33480" cy="331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380800" y="3836880"/>
                <a:ext cx="451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3-Av. Gral Paz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323200" y="3957480"/>
                <a:ext cx="33480" cy="334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379720" y="3944880"/>
                <a:ext cx="480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2-Benito Juarez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323200" y="4065480"/>
                <a:ext cx="33480" cy="334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380080" y="4052880"/>
                <a:ext cx="4244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1-Nueva York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323200" y="4173480"/>
                <a:ext cx="33480" cy="33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378640" y="4160880"/>
                <a:ext cx="3452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0-Chivilcoy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323200" y="4281480"/>
                <a:ext cx="33480" cy="334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380080" y="4270320"/>
                <a:ext cx="3513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9-Av. Beir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323200" y="4389480"/>
                <a:ext cx="33480" cy="349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1520" y="4378320"/>
                <a:ext cx="5295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8-Emilio Lamarc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323200" y="4498920"/>
                <a:ext cx="33480" cy="334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383680" y="4486320"/>
                <a:ext cx="36648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7-Campan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3200" y="4606920"/>
                <a:ext cx="33480" cy="3348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381160" y="4594320"/>
                <a:ext cx="309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6-Cuenc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323200" y="4714920"/>
                <a:ext cx="334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382600" y="4702320"/>
                <a:ext cx="2721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5-Nazc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323200" y="4822920"/>
                <a:ext cx="33480" cy="331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382600" y="4809960"/>
                <a:ext cx="309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4-Nogoy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23200" y="4930920"/>
                <a:ext cx="33480" cy="33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383320" y="4919760"/>
                <a:ext cx="451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3-Empedrado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323200" y="5038560"/>
                <a:ext cx="33480" cy="334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380440" y="5027760"/>
                <a:ext cx="2826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2-Trelle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323200" y="5148360"/>
                <a:ext cx="3348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381520" y="5135400"/>
                <a:ext cx="5187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1-Jorge Newbery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323200" y="5256360"/>
                <a:ext cx="33480" cy="33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8381520" y="5243400"/>
              <a:ext cx="3222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0-Girardo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23200" y="5364000"/>
              <a:ext cx="33480" cy="3348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79360" y="5351400"/>
              <a:ext cx="496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8-Av. Corrient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23200" y="5472000"/>
              <a:ext cx="33480" cy="3348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82600" y="5459400"/>
              <a:ext cx="3178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7-Velazc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323200" y="5580000"/>
              <a:ext cx="33480" cy="3348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81160" y="5567400"/>
              <a:ext cx="2779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6-Loyol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23200" y="5688000"/>
              <a:ext cx="33480" cy="33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381520" y="5676840"/>
              <a:ext cx="445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5-Av. Cordob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323200" y="5796000"/>
              <a:ext cx="33480" cy="34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382240" y="5784840"/>
              <a:ext cx="320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3-Cabre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323200" y="5905440"/>
              <a:ext cx="33480" cy="33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380080" y="5892840"/>
              <a:ext cx="2660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2-Gorrit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0" y="6013440"/>
              <a:ext cx="33480" cy="33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80440" y="6000840"/>
              <a:ext cx="3664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1-Hondura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-11268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-6732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89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792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7680" y="1309680"/>
              <a:ext cx="94464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5560" y="131760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63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01004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1880" y="6297480"/>
              <a:ext cx="2347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8940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96200" y="1138320"/>
              <a:ext cx="75744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5520" y="115884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201F-E918-4F29-B7A4-7B9A1263012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735A8-625C-4955-9811-80D4A86900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4151" name=""/>
          <p:cNvGrpSpPr/>
          <p:nvPr/>
        </p:nvGrpSpPr>
        <p:grpSpPr>
          <a:xfrm>
            <a:off x="50760" y="895320"/>
            <a:ext cx="9164520" cy="5565960"/>
            <a:chOff x="50760" y="895320"/>
            <a:chExt cx="9164520" cy="5565960"/>
          </a:xfrm>
        </p:grpSpPr>
        <p:grpSp>
          <p:nvGrpSpPr>
            <p:cNvPr id="4152" name=""/>
            <p:cNvGrpSpPr/>
            <p:nvPr/>
          </p:nvGrpSpPr>
          <p:grpSpPr>
            <a:xfrm>
              <a:off x="188640" y="1235160"/>
              <a:ext cx="8166240" cy="4843440"/>
              <a:chOff x="188640" y="1235160"/>
              <a:chExt cx="8166240" cy="4843440"/>
            </a:xfrm>
          </p:grpSpPr>
          <p:sp>
            <p:nvSpPr>
              <p:cNvPr id="4153" name=""/>
              <p:cNvSpPr/>
              <p:nvPr/>
            </p:nvSpPr>
            <p:spPr>
              <a:xfrm>
                <a:off x="411120" y="1935000"/>
                <a:ext cx="794376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411120" y="602604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411120" y="551484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411120" y="50022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411120" y="44928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11120" y="39798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11120" y="34704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11120" y="29574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11120" y="24462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11120" y="19350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11120" y="1935000"/>
                <a:ext cx="794376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6811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157968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4013280" y="5361120"/>
                <a:ext cx="98280" cy="407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90860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03712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606276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831000" y="5616720"/>
                <a:ext cx="982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959520" y="4900680"/>
                <a:ext cx="98640" cy="868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08660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601040" y="3111480"/>
                <a:ext cx="98280" cy="2657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728120" y="2112840"/>
                <a:ext cx="99720" cy="3656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856640" y="4414680"/>
                <a:ext cx="98280" cy="1354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98516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8112240" y="5743440"/>
                <a:ext cx="9972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411120" y="5769000"/>
                <a:ext cx="794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 flipV="1">
                <a:off x="539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 flipV="1">
                <a:off x="666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 flipV="1">
                <a:off x="795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 flipV="1">
                <a:off x="923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V="1">
                <a:off x="1050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 flipV="1">
                <a:off x="1179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 flipV="1">
                <a:off x="1308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flipV="1">
                <a:off x="143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 flipV="1">
                <a:off x="156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 flipV="1">
                <a:off x="169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 flipV="1">
                <a:off x="1820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 flipV="1">
                <a:off x="1949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 flipV="1">
                <a:off x="2077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 flipV="1">
                <a:off x="2205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 flipV="1">
                <a:off x="2333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 flipV="1">
                <a:off x="2460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V="1">
                <a:off x="2589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 flipV="1">
                <a:off x="271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V="1">
                <a:off x="2844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 flipV="1">
                <a:off x="2973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V="1">
                <a:off x="3102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V="1">
                <a:off x="3228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 flipV="1">
                <a:off x="3357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 flipV="1">
                <a:off x="348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V="1">
                <a:off x="3614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 flipV="1">
                <a:off x="374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V="1">
                <a:off x="3871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V="1">
                <a:off x="3998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 flipV="1">
                <a:off x="412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 flipV="1">
                <a:off x="4254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 flipV="1">
                <a:off x="4383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 flipV="1">
                <a:off x="4511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 flipV="1">
                <a:off x="4638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V="1">
                <a:off x="4767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 flipV="1">
                <a:off x="4896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 flipV="1">
                <a:off x="5022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 flipV="1">
                <a:off x="515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V="1">
                <a:off x="5280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 flipV="1">
                <a:off x="5408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 flipV="1">
                <a:off x="5537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 flipV="1">
                <a:off x="5664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 flipV="1">
                <a:off x="5792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 flipV="1">
                <a:off x="5921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 flipV="1">
                <a:off x="6048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 flipV="1">
                <a:off x="6176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 flipV="1">
                <a:off x="6305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 flipV="1">
                <a:off x="6432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 flipV="1">
                <a:off x="6561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 flipV="1">
                <a:off x="6689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 flipV="1">
                <a:off x="6816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 flipV="1">
                <a:off x="6945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 flipV="1">
                <a:off x="7074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 flipV="1">
                <a:off x="7201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V="1">
                <a:off x="7329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V="1">
                <a:off x="7458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V="1">
                <a:off x="7586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V="1">
                <a:off x="7715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V="1">
                <a:off x="7842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V="1">
                <a:off x="7970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V="1">
                <a:off x="8099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V="1">
                <a:off x="8226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V="1">
                <a:off x="8354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468324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rot="16200000">
                <a:off x="43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rot="16200000">
                <a:off x="566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rot="16200000">
                <a:off x="693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rot="16200000">
                <a:off x="822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rot="16200000">
                <a:off x="9507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rot="16200000">
                <a:off x="1077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rot="16200000">
                <a:off x="12063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rot="16200000">
                <a:off x="13348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rot="16200000">
                <a:off x="1463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rot="16200000">
                <a:off x="1564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rot="16200000">
                <a:off x="1692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rot="16200000">
                <a:off x="181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rot="16200000">
                <a:off x="194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rot="16200000">
                <a:off x="2078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rot="16200000">
                <a:off x="2205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rot="16200000">
                <a:off x="2333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 rot="16200000">
                <a:off x="2460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rot="16200000">
                <a:off x="2589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 rot="16200000">
                <a:off x="271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 rot="16200000">
                <a:off x="2845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 rot="16200000">
                <a:off x="2973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 rot="16200000">
                <a:off x="3102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 rot="16200000">
                <a:off x="322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rot="16200000">
                <a:off x="3359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 rot="16200000">
                <a:off x="348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 rot="16200000">
                <a:off x="3615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 rot="16200000">
                <a:off x="3743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rot="16200000">
                <a:off x="3872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 rot="16200000">
                <a:off x="39992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 rot="16200000">
                <a:off x="4127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 rot="16200000">
                <a:off x="4254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 rot="16200000">
                <a:off x="4411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 rot="16200000">
                <a:off x="4539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rot="16200000">
                <a:off x="4667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 rot="16200000">
                <a:off x="4795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 rot="16200000">
                <a:off x="4924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 rot="16200000">
                <a:off x="5051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rot="16200000">
                <a:off x="5180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 rot="16200000">
                <a:off x="5308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 rot="16200000">
                <a:off x="5437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 rot="16200000">
                <a:off x="5537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rot="16200000">
                <a:off x="5664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 rot="16200000">
                <a:off x="5793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rot="16200000">
                <a:off x="5921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rot="16200000">
                <a:off x="6048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rot="16200000">
                <a:off x="61772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 rot="16200000">
                <a:off x="6305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 rot="16200000">
                <a:off x="6432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 rot="16200000">
                <a:off x="6561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rot="16200000">
                <a:off x="66902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rot="16200000">
                <a:off x="6816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rot="16200000">
                <a:off x="6945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 rot="16200000">
                <a:off x="70743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rot="16200000">
                <a:off x="72014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rot="16200000">
                <a:off x="7331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 rot="16200000">
                <a:off x="74584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 rot="16200000">
                <a:off x="75870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rot="16200000">
                <a:off x="77155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 rot="16200000">
                <a:off x="78426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rot="16200000">
                <a:off x="79711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rot="16200000">
                <a:off x="80996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rot="16200000">
                <a:off x="82267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39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66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95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923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10508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11793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1308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1436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15652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1693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1820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1949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2077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22050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2333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24606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25891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2717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2844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2973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31021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32288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3357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34876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3614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37432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3871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3998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127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3" name=""/>
            <p:cNvSpPr/>
            <p:nvPr/>
          </p:nvSpPr>
          <p:spPr>
            <a:xfrm>
              <a:off x="4254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4511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4638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4767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4896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5022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5151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280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408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537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664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5792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5921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048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176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6305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432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6561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689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16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45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074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7201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7329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458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7586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7715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842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970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8099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8226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239148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33600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835488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438300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8454960" y="3981600"/>
              <a:ext cx="76032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849168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8602560" y="4005360"/>
              <a:ext cx="595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5-Rivadav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125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17240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4405320" y="6297480"/>
              <a:ext cx="2332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44517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8454960" y="3790800"/>
              <a:ext cx="76032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850464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4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CDF7-3F83-48BD-A31C-282540E95572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15E65-2051-4B9B-B6F9-6CB880B8F8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5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4406" name=""/>
          <p:cNvGrpSpPr/>
          <p:nvPr/>
        </p:nvGrpSpPr>
        <p:grpSpPr>
          <a:xfrm>
            <a:off x="50760" y="895320"/>
            <a:ext cx="9167760" cy="5565960"/>
            <a:chOff x="50760" y="895320"/>
            <a:chExt cx="9167760" cy="5565960"/>
          </a:xfrm>
        </p:grpSpPr>
        <p:grpSp>
          <p:nvGrpSpPr>
            <p:cNvPr id="4407" name=""/>
            <p:cNvGrpSpPr/>
            <p:nvPr/>
          </p:nvGrpSpPr>
          <p:grpSpPr>
            <a:xfrm>
              <a:off x="188640" y="1235160"/>
              <a:ext cx="7664760" cy="4843440"/>
              <a:chOff x="188640" y="1235160"/>
              <a:chExt cx="7664760" cy="4843440"/>
            </a:xfrm>
          </p:grpSpPr>
          <p:sp>
            <p:nvSpPr>
              <p:cNvPr id="4408" name=""/>
              <p:cNvSpPr/>
              <p:nvPr/>
            </p:nvSpPr>
            <p:spPr>
              <a:xfrm>
                <a:off x="411120" y="1935000"/>
                <a:ext cx="744228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11120" y="602604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11120" y="551484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11120" y="50022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11120" y="44928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11120" y="39798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11120" y="34704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11120" y="29574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11120" y="24462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11120" y="19350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11120" y="1935000"/>
                <a:ext cx="744228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2465280" y="4363920"/>
                <a:ext cx="93600" cy="1405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2585880" y="5667480"/>
                <a:ext cx="9216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2705040" y="5616720"/>
                <a:ext cx="9360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2825640" y="5641920"/>
                <a:ext cx="9216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2946240" y="5667480"/>
                <a:ext cx="9216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3067200" y="5719680"/>
                <a:ext cx="9036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3425760" y="5692680"/>
                <a:ext cx="9360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3546360" y="5743440"/>
                <a:ext cx="9216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3665520" y="5743440"/>
                <a:ext cx="9216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786120" y="5538960"/>
                <a:ext cx="9216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906720" y="5462640"/>
                <a:ext cx="9216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146480" y="5232240"/>
                <a:ext cx="9216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265640" y="4772160"/>
                <a:ext cx="93600" cy="996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386240" y="5078520"/>
                <a:ext cx="93600" cy="690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506840" y="5462640"/>
                <a:ext cx="9216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627440" y="5616720"/>
                <a:ext cx="9072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746600" y="5462640"/>
                <a:ext cx="9216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865760" y="5308560"/>
                <a:ext cx="93600" cy="460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986360" y="5232240"/>
                <a:ext cx="9360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106960" y="4951440"/>
                <a:ext cx="92160" cy="817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226120" y="5462640"/>
                <a:ext cx="9360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346720" y="5538960"/>
                <a:ext cx="9216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467320" y="5719680"/>
                <a:ext cx="9216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87920" y="5719680"/>
                <a:ext cx="9072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82624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946840" y="5591160"/>
                <a:ext cx="9360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6067440" y="5437080"/>
                <a:ext cx="9216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6186600" y="5743440"/>
                <a:ext cx="918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6907320" y="5743440"/>
                <a:ext cx="918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027920" y="5719680"/>
                <a:ext cx="9036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386480" y="5743440"/>
                <a:ext cx="9396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762624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7746840" y="5591160"/>
                <a:ext cx="9216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11120" y="5769000"/>
                <a:ext cx="7442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V="1">
                <a:off x="531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V="1">
                <a:off x="65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771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892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1011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113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1251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137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V="1">
                <a:off x="149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V="1">
                <a:off x="161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V="1">
                <a:off x="1731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V="1">
                <a:off x="185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1971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209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2211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flipV="1">
                <a:off x="2332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245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V="1">
                <a:off x="257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flipV="1">
                <a:off x="2690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 flipV="1">
                <a:off x="281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 flipV="1">
                <a:off x="293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V="1">
                <a:off x="305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V="1">
                <a:off x="3171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 flipV="1">
                <a:off x="3292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 flipV="1">
                <a:off x="3413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V="1">
                <a:off x="353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 flipV="1">
                <a:off x="365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3772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V="1">
                <a:off x="389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V="1">
                <a:off x="401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V="1">
                <a:off x="4133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V="1">
                <a:off x="4253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V="1">
                <a:off x="437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 flipV="1">
                <a:off x="449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 flipV="1">
                <a:off x="4613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 flipV="1">
                <a:off x="473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V="1">
                <a:off x="4853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4973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V="1">
                <a:off x="5092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 flipV="1">
                <a:off x="5211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V="1">
                <a:off x="533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 flipV="1">
                <a:off x="5452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5573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V="1">
                <a:off x="569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581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5932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 flipV="1">
                <a:off x="6053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 flipV="1">
                <a:off x="617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flipV="1">
                <a:off x="629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6413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V="1">
                <a:off x="6534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flipV="1">
                <a:off x="6653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677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6892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7013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V="1">
                <a:off x="713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flipV="1">
                <a:off x="725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7373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7494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V="1">
                <a:off x="761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 flipV="1">
                <a:off x="773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7853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68648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rot="16200000">
                <a:off x="433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rot="16200000">
                <a:off x="554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rot="16200000">
                <a:off x="674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rot="16200000">
                <a:off x="795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rot="16200000">
                <a:off x="914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rot="16200000">
                <a:off x="10350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rot="16200000">
                <a:off x="1153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rot="16200000">
                <a:off x="12747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rot="16200000">
                <a:off x="1393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rot="16200000">
                <a:off x="1486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rot="16200000">
                <a:off x="1607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rot="16200000">
                <a:off x="1727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rot="16200000">
                <a:off x="1846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rot="16200000">
                <a:off x="1967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rot="16200000">
                <a:off x="208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rot="16200000">
                <a:off x="220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 rot="16200000">
                <a:off x="232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rot="16200000">
                <a:off x="2448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rot="16200000">
                <a:off x="2568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rot="16200000">
                <a:off x="2689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 rot="16200000">
                <a:off x="2808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rot="16200000">
                <a:off x="2927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rot="16200000">
                <a:off x="3048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 rot="16200000">
                <a:off x="3169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rot="16200000">
                <a:off x="3289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rot="16200000">
                <a:off x="3408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rot="16200000">
                <a:off x="3529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 rot="16200000">
                <a:off x="364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 rot="16200000">
                <a:off x="376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rot="16200000">
                <a:off x="388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rot="16200000">
                <a:off x="4008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 rot="16200000">
                <a:off x="4157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 rot="16200000">
                <a:off x="4278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rot="16200000">
                <a:off x="43956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rot="16200000">
                <a:off x="4516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 rot="16200000">
                <a:off x="4636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 rot="16200000">
                <a:off x="47577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rot="16200000">
                <a:off x="4876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rot="16200000">
                <a:off x="4997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rot="16200000">
                <a:off x="511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 rot="16200000">
                <a:off x="5208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rot="16200000">
                <a:off x="532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rot="16200000">
                <a:off x="544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 rot="16200000">
                <a:off x="556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 rot="16200000">
                <a:off x="568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rot="16200000">
                <a:off x="5808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rot="16200000">
                <a:off x="5929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 rot="16200000">
                <a:off x="6048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 rot="16200000">
                <a:off x="6169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rot="16200000">
                <a:off x="6289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rot="16200000">
                <a:off x="6409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rot="16200000">
                <a:off x="6529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rot="16200000">
                <a:off x="6650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 rot="16200000">
                <a:off x="6770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rot="16200000">
                <a:off x="688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rot="16200000">
                <a:off x="700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rot="16200000">
                <a:off x="71298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rot="16200000">
                <a:off x="7250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rot="16200000">
                <a:off x="73695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rot="16200000">
                <a:off x="74901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rot="16200000">
                <a:off x="76107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rot="16200000">
                <a:off x="77299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531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652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714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8920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1011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1318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2510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3716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14922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1612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8" name=""/>
            <p:cNvSpPr/>
            <p:nvPr/>
          </p:nvSpPr>
          <p:spPr>
            <a:xfrm>
              <a:off x="1731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851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971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092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211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332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45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2573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2690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811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2932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3052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3171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3292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3413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3532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3651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772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89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013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253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371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92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613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732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853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973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5092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5211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5332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5452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5573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569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5813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5932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6053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6172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6292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6413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6534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6653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6772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6892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7013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713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7253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7373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494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612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7732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26584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595836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85340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13388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956720" y="3981600"/>
              <a:ext cx="12618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99308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8101080" y="4005360"/>
              <a:ext cx="1096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-Av. Hipolito Yrigoy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3873600" y="6297480"/>
              <a:ext cx="27756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392148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152960" y="6297480"/>
              <a:ext cx="2347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20084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956720" y="3790800"/>
              <a:ext cx="126180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800604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8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BD70C-4AF6-465A-8152-CA03226D74B2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9F322-E79E-47AF-AA4A-1BD9CB277C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"/>
          <p:cNvSpPr/>
          <p:nvPr/>
        </p:nvSpPr>
        <p:spPr>
          <a:xfrm>
            <a:off x="436680" y="3313080"/>
            <a:ext cx="21564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866880" y="3313080"/>
            <a:ext cx="21564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1731960" y="3313080"/>
            <a:ext cx="216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1512720" y="3098880"/>
            <a:ext cx="214560" cy="2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1512720" y="3533760"/>
            <a:ext cx="214560" cy="2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1297080" y="2879640"/>
            <a:ext cx="215640" cy="21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1297080" y="3743280"/>
            <a:ext cx="215640" cy="2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1297080" y="3313080"/>
            <a:ext cx="21564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2336760" y="2943360"/>
            <a:ext cx="5453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acias por su a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42B8-1C2C-4575-A2F9-32060562AF41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F4C48-D212-419E-A43A-8BE8852D7C59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6360" y="154080"/>
            <a:ext cx="61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Barreras – Julio-Agost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-112680" y="895320"/>
            <a:ext cx="9192240" cy="5565960"/>
            <a:chOff x="-112680" y="895320"/>
            <a:chExt cx="9192240" cy="5565960"/>
          </a:xfrm>
        </p:grpSpPr>
        <p:grpSp>
          <p:nvGrpSpPr>
            <p:cNvPr id="885" name=""/>
            <p:cNvGrpSpPr/>
            <p:nvPr/>
          </p:nvGrpSpPr>
          <p:grpSpPr>
            <a:xfrm>
              <a:off x="247680" y="1498680"/>
              <a:ext cx="7948440" cy="4257720"/>
              <a:chOff x="247680" y="1498680"/>
              <a:chExt cx="7948440" cy="4257720"/>
            </a:xfrm>
          </p:grpSpPr>
          <p:sp>
            <p:nvSpPr>
              <p:cNvPr id="886" name=""/>
              <p:cNvSpPr/>
              <p:nvPr/>
            </p:nvSpPr>
            <p:spPr>
              <a:xfrm>
                <a:off x="247680" y="1498680"/>
                <a:ext cx="7948440" cy="425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7680" y="490392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47680" y="405288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7680" y="320184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7680" y="235116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47680" y="149868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47680" y="1498680"/>
                <a:ext cx="7948440" cy="4257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88800" y="5738760"/>
                <a:ext cx="1000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17680" y="5518080"/>
                <a:ext cx="99720" cy="238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46200" y="5602320"/>
                <a:ext cx="98280" cy="154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3280" y="5721480"/>
                <a:ext cx="10152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800360" y="5533920"/>
                <a:ext cx="98280" cy="222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927080" y="5091120"/>
                <a:ext cx="101880" cy="665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057400" y="5670720"/>
                <a:ext cx="98280" cy="85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313000" y="5738760"/>
                <a:ext cx="982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441520" y="5738760"/>
                <a:ext cx="9864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594240" y="5721480"/>
                <a:ext cx="9972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2760" y="5415120"/>
                <a:ext cx="100080" cy="341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851280" y="5738760"/>
                <a:ext cx="982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978360" y="5721480"/>
                <a:ext cx="10008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06880" y="5619600"/>
                <a:ext cx="100080" cy="1368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7200" y="5602320"/>
                <a:ext cx="98280" cy="154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748040" y="5551560"/>
                <a:ext cx="100080" cy="204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876920" y="5415120"/>
                <a:ext cx="98280" cy="341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05440" y="5278320"/>
                <a:ext cx="98280" cy="478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132520" y="5397480"/>
                <a:ext cx="99720" cy="358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261040" y="5551560"/>
                <a:ext cx="100080" cy="204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389560" y="5380200"/>
                <a:ext cx="100080" cy="376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518080" y="5584680"/>
                <a:ext cx="98640" cy="171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46600" y="5262480"/>
                <a:ext cx="98640" cy="493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73680" y="5415120"/>
                <a:ext cx="100080" cy="341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902200" y="5192640"/>
                <a:ext cx="98640" cy="563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031080" y="5465880"/>
                <a:ext cx="98280" cy="290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57800" y="5397480"/>
                <a:ext cx="100080" cy="358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286680" y="5653080"/>
                <a:ext cx="98280" cy="103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43720" y="5465880"/>
                <a:ext cx="100080" cy="290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672240" y="5499000"/>
                <a:ext cx="98280" cy="257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799320" y="5518080"/>
                <a:ext cx="100080" cy="238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927840" y="5602320"/>
                <a:ext cx="98280" cy="154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056360" y="5533920"/>
                <a:ext cx="98640" cy="222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183440" y="5533920"/>
                <a:ext cx="100080" cy="222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311960" y="5619600"/>
                <a:ext cx="98640" cy="1368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40480" y="5432400"/>
                <a:ext cx="98640" cy="324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567560" y="5584680"/>
                <a:ext cx="101520" cy="171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97880" y="5738760"/>
                <a:ext cx="982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826400" y="5584680"/>
                <a:ext cx="98280" cy="171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953480" y="5738760"/>
                <a:ext cx="1000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082000" y="5245200"/>
                <a:ext cx="98280" cy="511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057400" y="5653080"/>
                <a:ext cx="982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952720" y="5721480"/>
                <a:ext cx="100080" cy="349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081240" y="5721480"/>
                <a:ext cx="100080" cy="349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748040" y="5533920"/>
                <a:ext cx="1000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518080" y="5551560"/>
                <a:ext cx="98640" cy="331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57400" y="5637240"/>
                <a:ext cx="98280" cy="15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237200" y="5584680"/>
                <a:ext cx="9828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363920" y="5738760"/>
                <a:ext cx="10008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492800" y="5703840"/>
                <a:ext cx="98280" cy="525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518080" y="5533920"/>
                <a:ext cx="9864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62080" y="5465880"/>
                <a:ext cx="98280" cy="290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17680" y="5465880"/>
                <a:ext cx="99720" cy="52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46200" y="5584680"/>
                <a:ext cx="982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3280" y="5602320"/>
                <a:ext cx="101520" cy="119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903240" y="5670720"/>
                <a:ext cx="98640" cy="856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158840" y="5619600"/>
                <a:ext cx="100080" cy="136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7400" y="5619600"/>
                <a:ext cx="982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825640" y="5499000"/>
                <a:ext cx="98640" cy="2574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52720" y="5602320"/>
                <a:ext cx="100080" cy="119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081240" y="5346720"/>
                <a:ext cx="100080" cy="3747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11560" y="5533920"/>
                <a:ext cx="98280" cy="222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338640" y="5653080"/>
                <a:ext cx="99720" cy="1033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467160" y="5653080"/>
                <a:ext cx="98280" cy="1033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518080" y="5518080"/>
                <a:ext cx="9864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057400" y="5602320"/>
                <a:ext cx="98280" cy="1728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211560" y="5518080"/>
                <a:ext cx="98280" cy="158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518080" y="5499000"/>
                <a:ext cx="98640" cy="1908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903240" y="5653080"/>
                <a:ext cx="98640" cy="176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313000" y="5703840"/>
                <a:ext cx="98280" cy="349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441520" y="5721480"/>
                <a:ext cx="98640" cy="172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11560" y="5465880"/>
                <a:ext cx="98280" cy="5220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748040" y="5518080"/>
                <a:ext cx="100080" cy="158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876920" y="5380200"/>
                <a:ext cx="98280" cy="349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132520" y="5364000"/>
                <a:ext cx="99720" cy="334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18080" y="5465880"/>
                <a:ext cx="98640" cy="331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646600" y="5192640"/>
                <a:ext cx="98640" cy="698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86680" y="5637240"/>
                <a:ext cx="98280" cy="158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56360" y="5346720"/>
                <a:ext cx="98640" cy="18720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183440" y="5450040"/>
                <a:ext cx="100080" cy="838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903240" y="5637240"/>
                <a:ext cx="9864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42960" y="5619600"/>
                <a:ext cx="100080" cy="1368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671480" y="5380200"/>
                <a:ext cx="98640" cy="3762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800360" y="5126040"/>
                <a:ext cx="98280" cy="407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927080" y="4956120"/>
                <a:ext cx="101880" cy="1350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057400" y="5533920"/>
                <a:ext cx="98280" cy="684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5640" y="5380200"/>
                <a:ext cx="98640" cy="1188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11560" y="5450040"/>
                <a:ext cx="9828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722760" y="5380200"/>
                <a:ext cx="100080" cy="349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978360" y="5703840"/>
                <a:ext cx="1000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106880" y="5584680"/>
                <a:ext cx="100080" cy="349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621320" y="5738760"/>
                <a:ext cx="982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876920" y="5346720"/>
                <a:ext cx="98280" cy="334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32520" y="5313240"/>
                <a:ext cx="99720" cy="5076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518080" y="5432400"/>
                <a:ext cx="98640" cy="334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46600" y="5126040"/>
                <a:ext cx="98640" cy="666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31080" y="5450040"/>
                <a:ext cx="9828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286680" y="5619600"/>
                <a:ext cx="982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056360" y="5245200"/>
                <a:ext cx="98640" cy="1015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082000" y="5192640"/>
                <a:ext cx="98280" cy="5256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62080" y="5210280"/>
                <a:ext cx="98280" cy="255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88800" y="5450040"/>
                <a:ext cx="100080" cy="288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17680" y="5176800"/>
                <a:ext cx="99720" cy="289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46200" y="5518080"/>
                <a:ext cx="98280" cy="66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73280" y="5551560"/>
                <a:ext cx="101520" cy="50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903240" y="5091120"/>
                <a:ext cx="98640" cy="546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31760" y="5450040"/>
                <a:ext cx="9864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158840" y="5295960"/>
                <a:ext cx="100080" cy="323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287360" y="5450040"/>
                <a:ext cx="9864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415880" y="5670720"/>
                <a:ext cx="98640" cy="85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42960" y="5415120"/>
                <a:ext cx="100080" cy="204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1480" y="5295960"/>
                <a:ext cx="98640" cy="84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800360" y="4989600"/>
                <a:ext cx="98280" cy="1364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927080" y="4886280"/>
                <a:ext cx="101880" cy="69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057400" y="5346720"/>
                <a:ext cx="98280" cy="1872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184480" y="5619600"/>
                <a:ext cx="100080" cy="1368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313000" y="5465880"/>
                <a:ext cx="98280" cy="237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441520" y="5602320"/>
                <a:ext cx="98640" cy="119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68600" y="5653080"/>
                <a:ext cx="100080" cy="103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697120" y="5533920"/>
                <a:ext cx="98640" cy="222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25640" y="5262480"/>
                <a:ext cx="98640" cy="117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952720" y="5432400"/>
                <a:ext cx="100080" cy="169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081240" y="5108400"/>
                <a:ext cx="100080" cy="238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211560" y="5024520"/>
                <a:ext cx="98280" cy="425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338640" y="5584680"/>
                <a:ext cx="99720" cy="68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67160" y="5602320"/>
                <a:ext cx="98280" cy="50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94240" y="5670720"/>
                <a:ext cx="99720" cy="50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722760" y="5313240"/>
                <a:ext cx="100080" cy="66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851280" y="5619600"/>
                <a:ext cx="98280" cy="119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978360" y="5602320"/>
                <a:ext cx="100080" cy="101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106880" y="5551560"/>
                <a:ext cx="100080" cy="33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237200" y="5551560"/>
                <a:ext cx="98280" cy="33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363920" y="5703840"/>
                <a:ext cx="100080" cy="34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492800" y="5159520"/>
                <a:ext cx="98280" cy="544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621320" y="5126040"/>
                <a:ext cx="98280" cy="612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748040" y="4665600"/>
                <a:ext cx="100080" cy="852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876920" y="4649760"/>
                <a:ext cx="98280" cy="696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05440" y="4683240"/>
                <a:ext cx="98280" cy="595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32520" y="4478400"/>
                <a:ext cx="99720" cy="834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261040" y="5245200"/>
                <a:ext cx="10008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389560" y="4343400"/>
                <a:ext cx="100080" cy="10368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18080" y="4938840"/>
                <a:ext cx="98640" cy="4935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646600" y="4257720"/>
                <a:ext cx="98640" cy="868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73680" y="4649760"/>
                <a:ext cx="100080" cy="765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902200" y="4343400"/>
                <a:ext cx="98640" cy="849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031080" y="4802040"/>
                <a:ext cx="98280" cy="648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157800" y="4870440"/>
                <a:ext cx="100080" cy="5270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86680" y="5210280"/>
                <a:ext cx="98280" cy="409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415200" y="4989600"/>
                <a:ext cx="100080" cy="7668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3720" y="4579920"/>
                <a:ext cx="100080" cy="885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72240" y="4784760"/>
                <a:ext cx="98280" cy="714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799320" y="4819680"/>
                <a:ext cx="100080" cy="698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927840" y="5040360"/>
                <a:ext cx="98280" cy="561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056360" y="5024520"/>
                <a:ext cx="9864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183440" y="4784760"/>
                <a:ext cx="100080" cy="6652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11960" y="5143680"/>
                <a:ext cx="98640" cy="475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440480" y="4870440"/>
                <a:ext cx="98640" cy="561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567560" y="5126040"/>
                <a:ext cx="101520" cy="458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697880" y="5364000"/>
                <a:ext cx="98280" cy="374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26400" y="5518080"/>
                <a:ext cx="98280" cy="66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953480" y="5584680"/>
                <a:ext cx="100080" cy="154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082000" y="4784760"/>
                <a:ext cx="98280" cy="4078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903240" y="5073480"/>
                <a:ext cx="98640" cy="176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081240" y="5073480"/>
                <a:ext cx="100080" cy="349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11560" y="5005440"/>
                <a:ext cx="98280" cy="190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338640" y="5551560"/>
                <a:ext cx="9972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492800" y="5143680"/>
                <a:ext cx="98280" cy="158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876920" y="4632480"/>
                <a:ext cx="98280" cy="172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286680" y="5192640"/>
                <a:ext cx="98280" cy="176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415200" y="4853160"/>
                <a:ext cx="100080" cy="1364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543720" y="4002120"/>
                <a:ext cx="100080" cy="57780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672240" y="4597560"/>
                <a:ext cx="98280" cy="18720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799320" y="4530600"/>
                <a:ext cx="100080" cy="2890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27840" y="5024520"/>
                <a:ext cx="98280" cy="158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56360" y="4956120"/>
                <a:ext cx="98640" cy="6840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83440" y="4751280"/>
                <a:ext cx="100080" cy="334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97880" y="5330880"/>
                <a:ext cx="9828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953480" y="5551560"/>
                <a:ext cx="10008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62080" y="5159520"/>
                <a:ext cx="98280" cy="50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17680" y="5159520"/>
                <a:ext cx="99720" cy="17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081240" y="5057640"/>
                <a:ext cx="10008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338640" y="5518080"/>
                <a:ext cx="99720" cy="334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594240" y="5450040"/>
                <a:ext cx="99720" cy="2206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722760" y="5278320"/>
                <a:ext cx="100080" cy="34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851280" y="5551560"/>
                <a:ext cx="98280" cy="680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978360" y="5551560"/>
                <a:ext cx="100080" cy="50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492800" y="5057640"/>
                <a:ext cx="98280" cy="860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748040" y="4546440"/>
                <a:ext cx="100080" cy="1191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876920" y="4614840"/>
                <a:ext cx="98280" cy="176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05440" y="4614840"/>
                <a:ext cx="98280" cy="684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32520" y="4427640"/>
                <a:ext cx="99720" cy="50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389560" y="4290840"/>
                <a:ext cx="100080" cy="52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18080" y="4802040"/>
                <a:ext cx="98640" cy="1368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62080" y="3763800"/>
              <a:ext cx="7918200" cy="1906920"/>
              <a:chOff x="262080" y="3763800"/>
              <a:chExt cx="7918200" cy="1906920"/>
            </a:xfrm>
          </p:grpSpPr>
          <p:sp>
            <p:nvSpPr>
              <p:cNvPr id="1087" name=""/>
              <p:cNvSpPr/>
              <p:nvPr/>
            </p:nvSpPr>
            <p:spPr>
              <a:xfrm>
                <a:off x="5646600" y="4103640"/>
                <a:ext cx="98640" cy="1540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031080" y="4784760"/>
                <a:ext cx="98280" cy="17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799320" y="4511520"/>
                <a:ext cx="100080" cy="190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67560" y="5091120"/>
                <a:ext cx="101520" cy="34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97880" y="5091120"/>
                <a:ext cx="98280" cy="239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53480" y="5533920"/>
                <a:ext cx="100080" cy="176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082000" y="4751280"/>
                <a:ext cx="98280" cy="334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87360" y="5432400"/>
                <a:ext cx="98640" cy="17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184480" y="5584680"/>
                <a:ext cx="100080" cy="34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313000" y="5415120"/>
                <a:ext cx="98280" cy="507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621320" y="4784760"/>
                <a:ext cx="98280" cy="341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005440" y="4597560"/>
                <a:ext cx="9828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67560" y="5057640"/>
                <a:ext cx="101520" cy="334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97880" y="5073480"/>
                <a:ext cx="98280" cy="17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8800" y="5415120"/>
                <a:ext cx="100080" cy="349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903240" y="5040360"/>
                <a:ext cx="98640" cy="331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158840" y="5278320"/>
                <a:ext cx="100080" cy="176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415880" y="5499000"/>
                <a:ext cx="98640" cy="1717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057400" y="5330880"/>
                <a:ext cx="98280" cy="158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97120" y="5499000"/>
                <a:ext cx="98640" cy="349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825640" y="5245200"/>
                <a:ext cx="98640" cy="17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952720" y="5415120"/>
                <a:ext cx="100080" cy="17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978360" y="5483160"/>
                <a:ext cx="100080" cy="68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748040" y="4530600"/>
                <a:ext cx="100080" cy="158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67560" y="5024520"/>
                <a:ext cx="101520" cy="331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62080" y="5108400"/>
                <a:ext cx="98280" cy="51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88800" y="5380200"/>
                <a:ext cx="100080" cy="34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031760" y="5415120"/>
                <a:ext cx="98640" cy="34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158840" y="5108400"/>
                <a:ext cx="100080" cy="169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87360" y="5262480"/>
                <a:ext cx="98640" cy="169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415880" y="5262480"/>
                <a:ext cx="98640" cy="2365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57400" y="5210280"/>
                <a:ext cx="98280" cy="1206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84480" y="5551560"/>
                <a:ext cx="1000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697120" y="5364000"/>
                <a:ext cx="98640" cy="1350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825640" y="4683240"/>
                <a:ext cx="98640" cy="5619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952720" y="5040360"/>
                <a:ext cx="100080" cy="3747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978360" y="5450040"/>
                <a:ext cx="1000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621320" y="4718160"/>
                <a:ext cx="98280" cy="666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748040" y="4444920"/>
                <a:ext cx="100080" cy="856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876920" y="4511520"/>
                <a:ext cx="98280" cy="1033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05440" y="4579920"/>
                <a:ext cx="9828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389560" y="4257720"/>
                <a:ext cx="1000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18080" y="4767120"/>
                <a:ext cx="98640" cy="34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46600" y="3882960"/>
                <a:ext cx="98640" cy="2206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773680" y="4511520"/>
                <a:ext cx="100080" cy="1382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157800" y="4751280"/>
                <a:ext cx="100080" cy="1191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86680" y="5108400"/>
                <a:ext cx="98280" cy="842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543720" y="3933720"/>
                <a:ext cx="100080" cy="684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672240" y="4579920"/>
                <a:ext cx="9828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799320" y="4495680"/>
                <a:ext cx="1000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056360" y="4921200"/>
                <a:ext cx="98640" cy="34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40480" y="4819680"/>
                <a:ext cx="98640" cy="507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67560" y="5005440"/>
                <a:ext cx="101520" cy="190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211560" y="4989600"/>
                <a:ext cx="98280" cy="1584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646600" y="3865680"/>
                <a:ext cx="98640" cy="1728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543720" y="3882960"/>
                <a:ext cx="100080" cy="5076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94240" y="5364000"/>
                <a:ext cx="99720" cy="860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722760" y="4903920"/>
                <a:ext cx="100080" cy="37440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8080" y="4530600"/>
                <a:ext cx="98640" cy="2365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646600" y="3849840"/>
                <a:ext cx="98640" cy="158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773680" y="4478400"/>
                <a:ext cx="100080" cy="331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17680" y="5143680"/>
                <a:ext cx="99720" cy="158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46200" y="5499000"/>
                <a:ext cx="98280" cy="19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441520" y="5567400"/>
                <a:ext cx="98640" cy="349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697120" y="5346720"/>
                <a:ext cx="98640" cy="1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594240" y="5330880"/>
                <a:ext cx="99720" cy="331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27840" y="5005440"/>
                <a:ext cx="98280" cy="19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62080" y="5073480"/>
                <a:ext cx="9828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7680" y="5126040"/>
                <a:ext cx="9972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46200" y="5450040"/>
                <a:ext cx="98280" cy="489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73280" y="5483160"/>
                <a:ext cx="101520" cy="684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903240" y="4938840"/>
                <a:ext cx="98640" cy="101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031760" y="5262480"/>
                <a:ext cx="98640" cy="152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158840" y="5073480"/>
                <a:ext cx="10008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287360" y="5192640"/>
                <a:ext cx="98640" cy="698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415880" y="5227560"/>
                <a:ext cx="9864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542960" y="5397480"/>
                <a:ext cx="10008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671480" y="5227560"/>
                <a:ext cx="98640" cy="684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800360" y="4956120"/>
                <a:ext cx="98280" cy="334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057400" y="5176800"/>
                <a:ext cx="98280" cy="334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184480" y="5518080"/>
                <a:ext cx="100080" cy="334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441520" y="5465880"/>
                <a:ext cx="98640" cy="101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68600" y="5450040"/>
                <a:ext cx="100080" cy="2030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697120" y="5143680"/>
                <a:ext cx="98640" cy="2030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825640" y="4376880"/>
                <a:ext cx="98640" cy="3063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211560" y="4971960"/>
                <a:ext cx="9828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594240" y="4956120"/>
                <a:ext cx="99720" cy="3747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21320" y="4683240"/>
                <a:ext cx="9828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646600" y="3832200"/>
                <a:ext cx="9864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97880" y="5057640"/>
                <a:ext cx="98280" cy="158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17680" y="5091120"/>
                <a:ext cx="9972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057400" y="5159520"/>
                <a:ext cx="982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97120" y="5073480"/>
                <a:ext cx="98640" cy="70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89560" y="4205160"/>
                <a:ext cx="100080" cy="52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31080" y="4751280"/>
                <a:ext cx="98280" cy="33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3720" y="3849840"/>
                <a:ext cx="100080" cy="331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183440" y="4734000"/>
                <a:ext cx="1000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40480" y="4784760"/>
                <a:ext cx="9864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567560" y="4989600"/>
                <a:ext cx="10152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7680" y="5024520"/>
                <a:ext cx="99720" cy="6660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3720" y="3832200"/>
                <a:ext cx="100080" cy="17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440480" y="4767120"/>
                <a:ext cx="98640" cy="17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567560" y="4971960"/>
                <a:ext cx="101520" cy="17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17680" y="4971960"/>
                <a:ext cx="99720" cy="525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46200" y="5432400"/>
                <a:ext cx="98280" cy="17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389560" y="4017960"/>
                <a:ext cx="100080" cy="1872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518080" y="4392720"/>
                <a:ext cx="98640" cy="1378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542960" y="5295960"/>
                <a:ext cx="100080" cy="101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722760" y="4886280"/>
                <a:ext cx="100080" cy="17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646600" y="3813120"/>
                <a:ext cx="98640" cy="190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62080" y="4699080"/>
                <a:ext cx="98280" cy="37440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88800" y="5262480"/>
                <a:ext cx="100080" cy="1177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17680" y="4956120"/>
                <a:ext cx="9972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46200" y="5415120"/>
                <a:ext cx="98280" cy="17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31760" y="5227560"/>
                <a:ext cx="9864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158840" y="5057640"/>
                <a:ext cx="1000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87360" y="5159520"/>
                <a:ext cx="98640" cy="331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057400" y="5143680"/>
                <a:ext cx="982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184480" y="5450040"/>
                <a:ext cx="100080" cy="680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441520" y="5432400"/>
                <a:ext cx="98640" cy="334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697120" y="5057640"/>
                <a:ext cx="9864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825640" y="4359240"/>
                <a:ext cx="98640" cy="17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081240" y="5040360"/>
                <a:ext cx="100080" cy="17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211560" y="4938840"/>
                <a:ext cx="98280" cy="331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338640" y="5499000"/>
                <a:ext cx="99720" cy="190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978360" y="5432400"/>
                <a:ext cx="100080" cy="17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6920" y="4495680"/>
                <a:ext cx="982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005440" y="4564080"/>
                <a:ext cx="982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132520" y="4376880"/>
                <a:ext cx="99720" cy="5076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61040" y="5210280"/>
                <a:ext cx="1000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389560" y="4002120"/>
                <a:ext cx="1000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646600" y="3797280"/>
                <a:ext cx="9864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773680" y="4444920"/>
                <a:ext cx="100080" cy="334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902200" y="4273560"/>
                <a:ext cx="98640" cy="69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543720" y="3797280"/>
                <a:ext cx="1000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799320" y="4478400"/>
                <a:ext cx="100080" cy="17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183440" y="4718160"/>
                <a:ext cx="1000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311960" y="5108400"/>
                <a:ext cx="98640" cy="35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97880" y="5024520"/>
                <a:ext cx="98280" cy="331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826400" y="5499000"/>
                <a:ext cx="98280" cy="190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082000" y="4734000"/>
                <a:ext cx="98280" cy="17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2080" y="4649760"/>
                <a:ext cx="98280" cy="493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46200" y="5330880"/>
                <a:ext cx="98280" cy="842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031760" y="5192640"/>
                <a:ext cx="9864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158840" y="4989600"/>
                <a:ext cx="100080" cy="68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415880" y="5210280"/>
                <a:ext cx="9864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542960" y="5245200"/>
                <a:ext cx="100080" cy="507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927080" y="4870440"/>
                <a:ext cx="10188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184480" y="5415120"/>
                <a:ext cx="10008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697120" y="5040360"/>
                <a:ext cx="9864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25640" y="4343400"/>
                <a:ext cx="9864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081240" y="5024520"/>
                <a:ext cx="10008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594240" y="4938840"/>
                <a:ext cx="9972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51280" y="5533920"/>
                <a:ext cx="9828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78360" y="5397480"/>
                <a:ext cx="10008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106880" y="5518080"/>
                <a:ext cx="10008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876920" y="4478400"/>
                <a:ext cx="9828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389560" y="3984480"/>
                <a:ext cx="10008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73680" y="4376880"/>
                <a:ext cx="100080" cy="68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031080" y="4734000"/>
                <a:ext cx="9828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543720" y="3780000"/>
                <a:ext cx="10008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311960" y="5073480"/>
                <a:ext cx="9864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697880" y="5005440"/>
                <a:ext cx="98280" cy="190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081240" y="5005440"/>
                <a:ext cx="100080" cy="190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492800" y="5040360"/>
                <a:ext cx="9828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902200" y="4257720"/>
                <a:ext cx="98640" cy="158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46200" y="5313240"/>
                <a:ext cx="98280" cy="176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927080" y="4853160"/>
                <a:ext cx="101880" cy="1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697120" y="5024520"/>
                <a:ext cx="9864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81240" y="4971960"/>
                <a:ext cx="100080" cy="334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211560" y="4921200"/>
                <a:ext cx="98280" cy="176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38640" y="5483160"/>
                <a:ext cx="9972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594240" y="4921200"/>
                <a:ext cx="99720" cy="176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722760" y="4718160"/>
                <a:ext cx="100080" cy="1681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978360" y="5364000"/>
                <a:ext cx="100080" cy="334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106880" y="5483160"/>
                <a:ext cx="100080" cy="349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492800" y="5024520"/>
                <a:ext cx="9828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518080" y="4376880"/>
                <a:ext cx="9864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902200" y="4240080"/>
                <a:ext cx="98640" cy="176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157800" y="4718160"/>
                <a:ext cx="100080" cy="331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415880" y="5159520"/>
                <a:ext cx="98640" cy="507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057400" y="5108400"/>
                <a:ext cx="98280" cy="352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313000" y="5380200"/>
                <a:ext cx="98280" cy="349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1560" y="4903920"/>
                <a:ext cx="98280" cy="172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492800" y="4989600"/>
                <a:ext cx="98280" cy="349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646600" y="3763800"/>
                <a:ext cx="98640" cy="334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773680" y="4359240"/>
                <a:ext cx="100080" cy="176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15200" y="4819680"/>
                <a:ext cx="100080" cy="334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672240" y="4495680"/>
                <a:ext cx="98280" cy="842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799320" y="4410000"/>
                <a:ext cx="100080" cy="6840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056360" y="4886280"/>
                <a:ext cx="98640" cy="349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800360" y="4938840"/>
                <a:ext cx="98280" cy="172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057400" y="5091120"/>
                <a:ext cx="98280" cy="172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952720" y="4989600"/>
                <a:ext cx="100080" cy="5076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467160" y="5465880"/>
                <a:ext cx="98280" cy="13644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492800" y="4956120"/>
                <a:ext cx="98280" cy="334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02200" y="4189320"/>
                <a:ext cx="98640" cy="5076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031080" y="4699080"/>
                <a:ext cx="98280" cy="349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953480" y="5518080"/>
                <a:ext cx="100080" cy="1584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81240" y="4938840"/>
                <a:ext cx="100080" cy="331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262080" y="3422520"/>
              <a:ext cx="7918200" cy="2129040"/>
              <a:chOff x="262080" y="3422520"/>
              <a:chExt cx="7918200" cy="2129040"/>
            </a:xfrm>
          </p:grpSpPr>
          <p:sp>
            <p:nvSpPr>
              <p:cNvPr id="1288" name=""/>
              <p:cNvSpPr/>
              <p:nvPr/>
            </p:nvSpPr>
            <p:spPr>
              <a:xfrm>
                <a:off x="4492800" y="4938840"/>
                <a:ext cx="98280" cy="17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02200" y="4172040"/>
                <a:ext cx="98640" cy="17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057400" y="5073480"/>
                <a:ext cx="98280" cy="176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518080" y="4359240"/>
                <a:ext cx="98640" cy="176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97120" y="5005440"/>
                <a:ext cx="98640" cy="190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902200" y="4103640"/>
                <a:ext cx="98640" cy="6840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799320" y="4392720"/>
                <a:ext cx="100080" cy="172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158840" y="4921200"/>
                <a:ext cx="100080" cy="6840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287360" y="5057640"/>
                <a:ext cx="98640" cy="1018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15880" y="4956120"/>
                <a:ext cx="98640" cy="20340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927080" y="4819680"/>
                <a:ext cx="101880" cy="334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081240" y="4767120"/>
                <a:ext cx="100080" cy="17172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211560" y="4767120"/>
                <a:ext cx="98280" cy="13680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51280" y="5483160"/>
                <a:ext cx="98280" cy="50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748040" y="4410000"/>
                <a:ext cx="100080" cy="3492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876920" y="4444920"/>
                <a:ext cx="98280" cy="334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132520" y="4290840"/>
                <a:ext cx="99720" cy="86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183440" y="4683240"/>
                <a:ext cx="100080" cy="349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62080" y="4632480"/>
                <a:ext cx="98280" cy="172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7680" y="4938840"/>
                <a:ext cx="99720" cy="172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057400" y="5040360"/>
                <a:ext cx="98280" cy="331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313000" y="5346720"/>
                <a:ext cx="982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441520" y="5415120"/>
                <a:ext cx="98640" cy="172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697120" y="4938840"/>
                <a:ext cx="98640" cy="666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52720" y="4853160"/>
                <a:ext cx="100080" cy="13644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081240" y="4546440"/>
                <a:ext cx="100080" cy="2206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11560" y="4665600"/>
                <a:ext cx="98280" cy="1015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38640" y="5450040"/>
                <a:ext cx="99720" cy="331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467160" y="5397480"/>
                <a:ext cx="98280" cy="684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594240" y="4665600"/>
                <a:ext cx="99720" cy="2556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722760" y="4546440"/>
                <a:ext cx="100080" cy="1717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06880" y="5346720"/>
                <a:ext cx="100080" cy="13644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492800" y="4886280"/>
                <a:ext cx="98280" cy="5256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005440" y="4376880"/>
                <a:ext cx="98280" cy="1872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132520" y="4172040"/>
                <a:ext cx="99720" cy="1188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261040" y="5091120"/>
                <a:ext cx="100080" cy="11916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389560" y="3933720"/>
                <a:ext cx="100080" cy="5076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157800" y="4632480"/>
                <a:ext cx="100080" cy="856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15200" y="4802040"/>
                <a:ext cx="100080" cy="1764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672240" y="4478400"/>
                <a:ext cx="98280" cy="172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99320" y="4359240"/>
                <a:ext cx="1000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927840" y="4903920"/>
                <a:ext cx="98280" cy="1015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56360" y="4751280"/>
                <a:ext cx="98640" cy="1350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183440" y="4649760"/>
                <a:ext cx="1000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2080" y="4614840"/>
                <a:ext cx="98280" cy="176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17680" y="4921200"/>
                <a:ext cx="99720" cy="176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46200" y="5295960"/>
                <a:ext cx="9828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158840" y="4903920"/>
                <a:ext cx="10008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800360" y="4903920"/>
                <a:ext cx="98280" cy="3492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927080" y="4802040"/>
                <a:ext cx="101880" cy="176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211560" y="4649760"/>
                <a:ext cx="98280" cy="158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338640" y="5397480"/>
                <a:ext cx="99720" cy="5256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467160" y="5380200"/>
                <a:ext cx="9828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46600" y="3746520"/>
                <a:ext cx="9864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773680" y="4343400"/>
                <a:ext cx="100080" cy="158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902200" y="4070520"/>
                <a:ext cx="98640" cy="3312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62080" y="4597560"/>
                <a:ext cx="98280" cy="172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7680" y="4903920"/>
                <a:ext cx="99720" cy="172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46200" y="5278320"/>
                <a:ext cx="98280" cy="176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903240" y="4921200"/>
                <a:ext cx="98640" cy="176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542960" y="5227560"/>
                <a:ext cx="100080" cy="176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27080" y="4767120"/>
                <a:ext cx="101880" cy="3492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057400" y="5005440"/>
                <a:ext cx="98280" cy="3492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313000" y="5176800"/>
                <a:ext cx="98280" cy="16992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773680" y="4273560"/>
                <a:ext cx="100080" cy="698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902200" y="4037040"/>
                <a:ext cx="98640" cy="334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543720" y="3730680"/>
                <a:ext cx="100080" cy="4932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799320" y="4325760"/>
                <a:ext cx="100080" cy="334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183440" y="4632480"/>
                <a:ext cx="100080" cy="172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11960" y="5057640"/>
                <a:ext cx="98640" cy="158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62080" y="4579920"/>
                <a:ext cx="98280" cy="176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17680" y="4886280"/>
                <a:ext cx="99720" cy="176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46200" y="5262480"/>
                <a:ext cx="98280" cy="158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903240" y="4853160"/>
                <a:ext cx="98640" cy="680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031760" y="5057640"/>
                <a:ext cx="98640" cy="13500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184480" y="5330880"/>
                <a:ext cx="100080" cy="842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568600" y="5397480"/>
                <a:ext cx="100080" cy="5256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697120" y="4870440"/>
                <a:ext cx="98640" cy="6840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825640" y="4308480"/>
                <a:ext cx="98640" cy="3492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952720" y="4632480"/>
                <a:ext cx="100080" cy="22068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081240" y="4495680"/>
                <a:ext cx="100080" cy="5076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211560" y="4597560"/>
                <a:ext cx="98280" cy="5220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467160" y="5364000"/>
                <a:ext cx="98280" cy="1620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773680" y="4189320"/>
                <a:ext cx="100080" cy="842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902200" y="4017960"/>
                <a:ext cx="98640" cy="1908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40480" y="4751280"/>
                <a:ext cx="98640" cy="158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567560" y="4938840"/>
                <a:ext cx="101520" cy="3312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62080" y="4511520"/>
                <a:ext cx="98280" cy="684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7680" y="4870440"/>
                <a:ext cx="99720" cy="158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46200" y="5245200"/>
                <a:ext cx="9828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927080" y="4308480"/>
                <a:ext cx="101880" cy="4586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184480" y="5245200"/>
                <a:ext cx="100080" cy="856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697120" y="4853160"/>
                <a:ext cx="9864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978360" y="5346720"/>
                <a:ext cx="10008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492800" y="4699080"/>
                <a:ext cx="98280" cy="1872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621320" y="4290840"/>
                <a:ext cx="98280" cy="3924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748040" y="4343400"/>
                <a:ext cx="100080" cy="666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005440" y="4052880"/>
                <a:ext cx="98280" cy="3240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132520" y="4070520"/>
                <a:ext cx="99720" cy="1015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389560" y="3576600"/>
                <a:ext cx="100080" cy="3571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518080" y="4273560"/>
                <a:ext cx="98640" cy="856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646600" y="3711600"/>
                <a:ext cx="98640" cy="349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773680" y="4103640"/>
                <a:ext cx="100080" cy="856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02200" y="3559320"/>
                <a:ext cx="98640" cy="4586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157800" y="4597560"/>
                <a:ext cx="100080" cy="349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286680" y="4989600"/>
                <a:ext cx="98280" cy="1188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799320" y="4257720"/>
                <a:ext cx="100080" cy="680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311960" y="5040360"/>
                <a:ext cx="9864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440480" y="4699080"/>
                <a:ext cx="98640" cy="522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67560" y="4853160"/>
                <a:ext cx="101520" cy="856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97880" y="4971960"/>
                <a:ext cx="98280" cy="334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826400" y="5262480"/>
                <a:ext cx="98280" cy="2365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53480" y="5364000"/>
                <a:ext cx="100080" cy="1540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082000" y="4632480"/>
                <a:ext cx="98280" cy="1015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158840" y="4886280"/>
                <a:ext cx="1000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800360" y="4886280"/>
                <a:ext cx="982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184480" y="5210280"/>
                <a:ext cx="100080" cy="349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722760" y="4478400"/>
                <a:ext cx="100080" cy="680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748040" y="4290840"/>
                <a:ext cx="100080" cy="525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15200" y="4784760"/>
                <a:ext cx="10008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799320" y="4240080"/>
                <a:ext cx="1000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826400" y="5245200"/>
                <a:ext cx="9828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082000" y="4614840"/>
                <a:ext cx="982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903240" y="4836960"/>
                <a:ext cx="98640" cy="162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58840" y="4819680"/>
                <a:ext cx="100080" cy="666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542960" y="5210280"/>
                <a:ext cx="100080" cy="172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184480" y="5176800"/>
                <a:ext cx="100080" cy="334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697120" y="4836960"/>
                <a:ext cx="98640" cy="162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467160" y="5346720"/>
                <a:ext cx="98280" cy="172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722760" y="4392720"/>
                <a:ext cx="100080" cy="856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851280" y="5465880"/>
                <a:ext cx="98280" cy="172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15200" y="4767120"/>
                <a:ext cx="100080" cy="176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799320" y="4224240"/>
                <a:ext cx="100080" cy="158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567560" y="4836960"/>
                <a:ext cx="101520" cy="162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26400" y="5227560"/>
                <a:ext cx="98280" cy="176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082000" y="4530600"/>
                <a:ext cx="98280" cy="842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88800" y="5245200"/>
                <a:ext cx="10008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46200" y="5210280"/>
                <a:ext cx="98280" cy="349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903240" y="4819680"/>
                <a:ext cx="9864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158840" y="4802040"/>
                <a:ext cx="10008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800360" y="4870440"/>
                <a:ext cx="982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927080" y="4290840"/>
                <a:ext cx="10188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184480" y="5143680"/>
                <a:ext cx="100080" cy="33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313000" y="5159520"/>
                <a:ext cx="9828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825640" y="4290840"/>
                <a:ext cx="9864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952720" y="4511520"/>
                <a:ext cx="100080" cy="1209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081240" y="4478400"/>
                <a:ext cx="10008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211560" y="4546440"/>
                <a:ext cx="98280" cy="51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594240" y="4632480"/>
                <a:ext cx="99720" cy="33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722760" y="4343400"/>
                <a:ext cx="100080" cy="493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492800" y="4683240"/>
                <a:ext cx="982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9560" y="3543480"/>
                <a:ext cx="100080" cy="33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902200" y="3422520"/>
                <a:ext cx="98640" cy="13680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415200" y="4751280"/>
                <a:ext cx="1000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799320" y="4205160"/>
                <a:ext cx="100080" cy="190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183440" y="4614840"/>
                <a:ext cx="10008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311960" y="4956120"/>
                <a:ext cx="98640" cy="84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440480" y="4683240"/>
                <a:ext cx="9864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97880" y="4956120"/>
                <a:ext cx="982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826400" y="5210280"/>
                <a:ext cx="9828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031760" y="5040360"/>
                <a:ext cx="9864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158840" y="4784760"/>
                <a:ext cx="1000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00360" y="4836960"/>
                <a:ext cx="98280" cy="33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27080" y="4273560"/>
                <a:ext cx="1018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184480" y="5108400"/>
                <a:ext cx="100080" cy="35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594240" y="4614840"/>
                <a:ext cx="9972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722760" y="430848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876920" y="4410000"/>
                <a:ext cx="982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389560" y="3524400"/>
                <a:ext cx="10008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518080" y="4037040"/>
                <a:ext cx="98640" cy="236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646600" y="3695760"/>
                <a:ext cx="9864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773680" y="4086360"/>
                <a:ext cx="1000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415200" y="4734000"/>
                <a:ext cx="1000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672240" y="4376880"/>
                <a:ext cx="98280" cy="101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799320" y="4189320"/>
                <a:ext cx="1000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826400" y="5192640"/>
                <a:ext cx="9828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62080" y="4495680"/>
                <a:ext cx="98280" cy="15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81240" y="4462560"/>
                <a:ext cx="100080" cy="15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492800" y="4665600"/>
                <a:ext cx="98280" cy="1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48040" y="4103640"/>
                <a:ext cx="100080" cy="18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132520" y="4052880"/>
                <a:ext cx="99720" cy="1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799320" y="4156200"/>
                <a:ext cx="10008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62080" y="4462560"/>
                <a:ext cx="98280" cy="331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88800" y="5192640"/>
                <a:ext cx="100080" cy="525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903240" y="4802040"/>
                <a:ext cx="9864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031760" y="5005440"/>
                <a:ext cx="98640" cy="349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158840" y="4767120"/>
                <a:ext cx="1000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287360" y="5040360"/>
                <a:ext cx="9864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415880" y="4938840"/>
                <a:ext cx="9864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542960" y="5192640"/>
                <a:ext cx="1000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800360" y="4819680"/>
                <a:ext cx="9828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927080" y="4257720"/>
                <a:ext cx="101880" cy="15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057400" y="4956120"/>
                <a:ext cx="98280" cy="49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441520" y="5330880"/>
                <a:ext cx="98640" cy="842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568600" y="5330880"/>
                <a:ext cx="100080" cy="66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081240" y="4444920"/>
                <a:ext cx="1000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106880" y="5330880"/>
                <a:ext cx="100080" cy="15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237200" y="5533920"/>
                <a:ext cx="982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492800" y="4614840"/>
                <a:ext cx="9828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621320" y="4240080"/>
                <a:ext cx="9828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25200" y="1438200"/>
              <a:ext cx="8170920" cy="4498920"/>
              <a:chOff x="25200" y="1438200"/>
              <a:chExt cx="8170920" cy="4498920"/>
            </a:xfrm>
          </p:grpSpPr>
          <p:sp>
            <p:nvSpPr>
              <p:cNvPr id="1489" name=""/>
              <p:cNvSpPr/>
              <p:nvPr/>
            </p:nvSpPr>
            <p:spPr>
              <a:xfrm>
                <a:off x="4748040" y="4052880"/>
                <a:ext cx="10008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646600" y="3660840"/>
                <a:ext cx="98640" cy="349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902200" y="3405240"/>
                <a:ext cx="9864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799320" y="4138560"/>
                <a:ext cx="1000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056360" y="4718160"/>
                <a:ext cx="98640" cy="331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311960" y="4903920"/>
                <a:ext cx="98640" cy="52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542960" y="5143680"/>
                <a:ext cx="100080" cy="489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671480" y="5192640"/>
                <a:ext cx="9864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800360" y="4579920"/>
                <a:ext cx="98280" cy="239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568600" y="5192640"/>
                <a:ext cx="100080" cy="1382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97120" y="4802040"/>
                <a:ext cx="9864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825640" y="4273560"/>
                <a:ext cx="98640" cy="172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952720" y="4257720"/>
                <a:ext cx="100080" cy="2538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081240" y="4325760"/>
                <a:ext cx="100080" cy="1191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211560" y="4427640"/>
                <a:ext cx="98280" cy="1188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978360" y="5192640"/>
                <a:ext cx="100080" cy="154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799320" y="4119480"/>
                <a:ext cx="100080" cy="19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47680" y="1498680"/>
                <a:ext cx="0" cy="425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17440" y="5756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17440" y="490392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7440" y="405288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7440" y="3201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17440" y="235116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17440" y="149868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47680" y="5756400"/>
                <a:ext cx="7948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247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376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503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631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760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888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1017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11462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1273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1401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15303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1657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1785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914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2043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2171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2298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2427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2556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2682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2811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2940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3067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3197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3325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34527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3581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37083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3836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39654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4092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4222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4351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44784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46069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4735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48625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91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5119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52466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5376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5504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5632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57610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5888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6016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6145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6272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6400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6531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6657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V="1">
                <a:off x="6786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6913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7042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7170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V="1">
                <a:off x="7297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7426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7554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7683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7812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79405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8067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8196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37160" y="5694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81360" y="4843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5200" y="399240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5200" y="313992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5200" y="228924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5200" y="143820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6200000">
                <a:off x="27468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6200000">
                <a:off x="40320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16200000">
                <a:off x="52992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16200000">
                <a:off x="65880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16200000">
                <a:off x="78876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6200000">
                <a:off x="91584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16200000">
                <a:off x="104436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16200000">
                <a:off x="117288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16200000">
                <a:off x="129996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16200000">
                <a:off x="14004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16200000">
                <a:off x="15292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rot="16200000">
                <a:off x="16560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16200000">
                <a:off x="17848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16200000">
                <a:off x="19148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16200000">
                <a:off x="20433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16200000">
                <a:off x="21722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6200000">
                <a:off x="22989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6200000">
                <a:off x="24274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6200000">
                <a:off x="25563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6200000">
                <a:off x="26830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6200000">
                <a:off x="28119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6200000">
                <a:off x="29404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6200000">
                <a:off x="30690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16200000">
                <a:off x="31975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6200000">
                <a:off x="33260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16200000">
                <a:off x="34531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16200000">
                <a:off x="35816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16200000">
                <a:off x="37087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16200000">
                <a:off x="38372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16200000">
                <a:off x="39657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16200000">
                <a:off x="40928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16200000">
                <a:off x="425124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16200000">
                <a:off x="437976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6200000">
                <a:off x="450684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16200000">
                <a:off x="463536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16200000">
                <a:off x="476388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6200000">
                <a:off x="489096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6200000">
                <a:off x="501948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rot="16200000">
                <a:off x="514800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rot="16200000">
                <a:off x="527508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16200000">
                <a:off x="53773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16200000">
                <a:off x="55044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16200000">
                <a:off x="56329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16200000">
                <a:off x="57614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16200000">
                <a:off x="58867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6200000">
                <a:off x="60170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16200000">
                <a:off x="61455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16200000">
                <a:off x="62726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16200000">
                <a:off x="64011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16200000">
                <a:off x="65314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16200000">
                <a:off x="66582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16200000">
                <a:off x="67870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16200000">
                <a:off x="69138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rot="16200000">
                <a:off x="70426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rot="16200000">
                <a:off x="71712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rot="16200000">
                <a:off x="72979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16200000">
                <a:off x="74268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16200000">
                <a:off x="75553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rot="16200000">
                <a:off x="76838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rot="16200000">
                <a:off x="78123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16200000">
                <a:off x="794088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rot="16200000">
                <a:off x="80679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76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032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318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60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888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017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1462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273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401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5303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6574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785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914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043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171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298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4271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556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2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811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9401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67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1971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325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527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5812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7083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836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9654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092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351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4784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6069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7354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8625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991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1195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2466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376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504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325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7610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8881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016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>
              <a:off x="614520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27228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40080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53112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5784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8672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1344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4232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17084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29756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42644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55496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68348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81200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4052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6760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29480" y="60166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202800" y="60166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47680" y="5756400"/>
              <a:ext cx="0" cy="3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196120" y="5756400"/>
              <a:ext cx="0" cy="3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222800" y="5756400"/>
              <a:ext cx="0" cy="3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296200" y="1328760"/>
              <a:ext cx="757440" cy="4761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323200" y="1360440"/>
              <a:ext cx="33480" cy="33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375760" y="1347840"/>
              <a:ext cx="6818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7-Av. Hipolito Yrigoye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323200" y="1468440"/>
              <a:ext cx="33480" cy="33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380080" y="1455840"/>
              <a:ext cx="419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6-Pueyrred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323200" y="1576440"/>
              <a:ext cx="33480" cy="3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380440" y="1563840"/>
              <a:ext cx="369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5-Rivadavi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323200" y="1684440"/>
              <a:ext cx="33480" cy="3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380800" y="1673280"/>
              <a:ext cx="2642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4-Irigo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323200" y="1792440"/>
              <a:ext cx="33480" cy="34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80080" y="1781280"/>
              <a:ext cx="541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3-Bartolome Mit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323200" y="1901880"/>
              <a:ext cx="33480" cy="3312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381160" y="1889280"/>
              <a:ext cx="2264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2-Itali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323200" y="2009880"/>
              <a:ext cx="33480" cy="33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81520" y="1996920"/>
              <a:ext cx="309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1-Cones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323200" y="2117880"/>
              <a:ext cx="33480" cy="3312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382960" y="2104920"/>
              <a:ext cx="261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0-Pard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323200" y="2225520"/>
              <a:ext cx="33480" cy="33480"/>
            </a:xfrm>
            <a:prstGeom prst="rect">
              <a:avLst/>
            </a:prstGeom>
            <a:solidFill>
              <a:srgbClr val="33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380080" y="2212920"/>
              <a:ext cx="3848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9-Corrient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323200" y="2333520"/>
              <a:ext cx="33480" cy="3348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379360" y="2322360"/>
              <a:ext cx="3985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8-Sourdeau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323200" y="2441520"/>
              <a:ext cx="33480" cy="3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379360" y="2430360"/>
              <a:ext cx="399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7-San Mart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323200" y="2550960"/>
              <a:ext cx="33480" cy="33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378280" y="2538360"/>
              <a:ext cx="640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6-Av. Senador Mor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323200" y="2658960"/>
              <a:ext cx="33480" cy="334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79720" y="2646360"/>
              <a:ext cx="451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5-Gral Villega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323200" y="2766960"/>
              <a:ext cx="33480" cy="334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380080" y="2754360"/>
              <a:ext cx="4273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4-Granadero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323200" y="2874960"/>
              <a:ext cx="33480" cy="334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380800" y="2862360"/>
              <a:ext cx="352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2-Jaurech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323200" y="2982960"/>
              <a:ext cx="33480" cy="331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2971800"/>
              <a:ext cx="438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1-Niceto Veg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323200" y="3090960"/>
              <a:ext cx="33480" cy="3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382240" y="3079800"/>
              <a:ext cx="3772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1-Necoche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323200" y="3200400"/>
              <a:ext cx="33480" cy="334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380080" y="3187800"/>
              <a:ext cx="5828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0-Benigno Ocamp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323200" y="3308400"/>
              <a:ext cx="33480" cy="331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379000" y="3295800"/>
              <a:ext cx="537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9-Gral. Rodriguez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323200" y="3416400"/>
              <a:ext cx="33480" cy="331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380800" y="3403440"/>
              <a:ext cx="349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8-Matienz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323200" y="3524400"/>
              <a:ext cx="33480" cy="331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376120" y="3511440"/>
              <a:ext cx="7034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7-Boulevard San Mart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323200" y="3632040"/>
              <a:ext cx="33480" cy="334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379720" y="3621240"/>
              <a:ext cx="4532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6-Gral. Horno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323200" y="3740040"/>
              <a:ext cx="33480" cy="349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376840" y="3728880"/>
              <a:ext cx="6606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5-Lisandro de la Tor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323200" y="3849840"/>
              <a:ext cx="33480" cy="331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380800" y="3836880"/>
              <a:ext cx="43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4-Av. Americ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323200" y="3957480"/>
              <a:ext cx="33480" cy="33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380440" y="3944880"/>
              <a:ext cx="451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3-Av. Gral Paz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323200" y="4065480"/>
              <a:ext cx="33480" cy="334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379360" y="4052880"/>
              <a:ext cx="480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2-Benito Juarez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323200" y="4173480"/>
              <a:ext cx="33480" cy="33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380080" y="4160880"/>
              <a:ext cx="4244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1-Nueva Yor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323200" y="4281480"/>
              <a:ext cx="33480" cy="334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379000" y="4270320"/>
              <a:ext cx="3452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0-Chivilco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323200" y="4389480"/>
              <a:ext cx="33480" cy="3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380800" y="4378320"/>
              <a:ext cx="351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9-Av. Beir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323200" y="4498920"/>
              <a:ext cx="33480" cy="3348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382240" y="4486320"/>
              <a:ext cx="529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8-Emilio Lamarc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323200" y="4606920"/>
              <a:ext cx="33480" cy="3348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383680" y="4594320"/>
              <a:ext cx="3664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7-Campan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323200" y="4714920"/>
              <a:ext cx="33480" cy="331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382960" y="4702320"/>
              <a:ext cx="2721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5-Nazc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323200" y="4822920"/>
              <a:ext cx="33480" cy="331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382600" y="4809960"/>
              <a:ext cx="309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4-Nogoy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323200" y="4930920"/>
              <a:ext cx="33480" cy="33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382960" y="4919760"/>
              <a:ext cx="451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3-Empedrado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323200" y="5038560"/>
              <a:ext cx="33480" cy="334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380080" y="5027760"/>
              <a:ext cx="2826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2-Trell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323200" y="5148360"/>
              <a:ext cx="33480" cy="331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381160" y="5135400"/>
              <a:ext cx="518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1-Jorge Newber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323200" y="5256360"/>
              <a:ext cx="33480" cy="33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381160" y="5243400"/>
              <a:ext cx="3222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0-Girardo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323200" y="5364000"/>
              <a:ext cx="33480" cy="3348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379000" y="5351400"/>
              <a:ext cx="496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8-Av. Corrient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323200" y="5472000"/>
              <a:ext cx="33480" cy="3348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382600" y="5459400"/>
              <a:ext cx="3178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7-Velazc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323200" y="5580000"/>
              <a:ext cx="33480" cy="3348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381880" y="5567400"/>
              <a:ext cx="2779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6-Loyol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323200" y="5688000"/>
              <a:ext cx="33480" cy="33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381880" y="5676840"/>
              <a:ext cx="445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5-Av. Cordob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23200" y="5796000"/>
              <a:ext cx="33480" cy="34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382600" y="5784840"/>
              <a:ext cx="320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3-Cabre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323200" y="5905440"/>
              <a:ext cx="33480" cy="33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380440" y="5892840"/>
              <a:ext cx="2660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2-Gorrit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323200" y="6013440"/>
              <a:ext cx="33480" cy="33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380440" y="6000840"/>
              <a:ext cx="3664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1-Hondura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-11268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-6696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189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6792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47680" y="1309680"/>
              <a:ext cx="94464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96280" y="131760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963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01040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241880" y="6297480"/>
              <a:ext cx="2347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2897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296200" y="1138320"/>
              <a:ext cx="75744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345880" y="115884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E41C-9B71-40E8-961E-B9E76A589A4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E5A99-7DDA-4440-B2EE-2EC63183AF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sp>
        <p:nvSpPr>
          <p:cNvPr id="1812" name=""/>
          <p:cNvSpPr/>
          <p:nvPr/>
        </p:nvSpPr>
        <p:spPr>
          <a:xfrm>
            <a:off x="306360" y="15408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Barreras – Septiembre-Octu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47680" y="1498680"/>
            <a:ext cx="7948440" cy="42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247680" y="490392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47680" y="405288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47680" y="320184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47680" y="235116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47680" y="149868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247680" y="1498680"/>
            <a:ext cx="7948440" cy="425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63520" y="5602320"/>
            <a:ext cx="98280" cy="15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23800" y="5738760"/>
            <a:ext cx="9864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434960" y="5703840"/>
            <a:ext cx="100080" cy="52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566720" y="5738760"/>
            <a:ext cx="9864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695600" y="5686560"/>
            <a:ext cx="101520" cy="69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827360" y="5670720"/>
            <a:ext cx="98280" cy="856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955880" y="5686560"/>
            <a:ext cx="101520" cy="69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2087640" y="5653080"/>
            <a:ext cx="98280" cy="1033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2217600" y="5738760"/>
            <a:ext cx="1000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347920" y="5738760"/>
            <a:ext cx="1000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868480" y="5703840"/>
            <a:ext cx="100080" cy="52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998800" y="5551560"/>
            <a:ext cx="100080" cy="204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3130560" y="5465880"/>
            <a:ext cx="98280" cy="2905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259080" y="5619600"/>
            <a:ext cx="101520" cy="1368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390840" y="5637240"/>
            <a:ext cx="98640" cy="11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519360" y="5738760"/>
            <a:ext cx="1018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781440" y="5703840"/>
            <a:ext cx="100080" cy="52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911760" y="5738760"/>
            <a:ext cx="9972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041720" y="5738760"/>
            <a:ext cx="1000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302000" y="5738760"/>
            <a:ext cx="1000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562640" y="5738760"/>
            <a:ext cx="9972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694400" y="5567400"/>
            <a:ext cx="98280" cy="189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822920" y="5415120"/>
            <a:ext cx="101520" cy="3412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087640" y="5637240"/>
            <a:ext cx="98280" cy="158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214960" y="5738760"/>
            <a:ext cx="98280" cy="176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695600" y="5670720"/>
            <a:ext cx="101520" cy="15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778800" y="5703840"/>
            <a:ext cx="98280" cy="52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082000" y="5637240"/>
            <a:ext cx="98280" cy="1191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214960" y="5721480"/>
            <a:ext cx="98280" cy="1728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955880" y="5619600"/>
            <a:ext cx="101520" cy="6696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041720" y="5721480"/>
            <a:ext cx="100080" cy="1728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954680" y="5738760"/>
            <a:ext cx="98280" cy="176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475240" y="5721480"/>
            <a:ext cx="100080" cy="3492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647040" y="5686560"/>
            <a:ext cx="101520" cy="698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6778800" y="5686560"/>
            <a:ext cx="98280" cy="1728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039080" y="5703840"/>
            <a:ext cx="100080" cy="5256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169040" y="5738760"/>
            <a:ext cx="100080" cy="176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7561440" y="5738760"/>
            <a:ext cx="98280" cy="176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821720" y="5738760"/>
            <a:ext cx="98280" cy="176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784080" y="5738760"/>
            <a:ext cx="100080" cy="17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738520" y="5670720"/>
            <a:ext cx="100080" cy="856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259080" y="5602320"/>
            <a:ext cx="101520" cy="17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041720" y="5703840"/>
            <a:ext cx="100080" cy="17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4172040" y="5738760"/>
            <a:ext cx="100080" cy="17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302000" y="5686560"/>
            <a:ext cx="100080" cy="5220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432320" y="5721480"/>
            <a:ext cx="100080" cy="3492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7039080" y="5686560"/>
            <a:ext cx="100080" cy="17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63520" y="5450040"/>
            <a:ext cx="98280" cy="152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92040" y="5584680"/>
            <a:ext cx="101520" cy="171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23800" y="5686560"/>
            <a:ext cx="98640" cy="52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54120" y="5653080"/>
            <a:ext cx="100080" cy="103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784080" y="5653080"/>
            <a:ext cx="100080" cy="85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914400" y="5670720"/>
            <a:ext cx="100080" cy="85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044720" y="5619600"/>
            <a:ext cx="99720" cy="136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174680" y="5686560"/>
            <a:ext cx="100080" cy="6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305000" y="5518080"/>
            <a:ext cx="100080" cy="238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434960" y="5465880"/>
            <a:ext cx="100080" cy="237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566720" y="5567400"/>
            <a:ext cx="98640" cy="1713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695600" y="5450040"/>
            <a:ext cx="101520" cy="220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827360" y="5533920"/>
            <a:ext cx="98280" cy="136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955880" y="5210280"/>
            <a:ext cx="101520" cy="409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087640" y="5364000"/>
            <a:ext cx="98280" cy="273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217600" y="5670720"/>
            <a:ext cx="100080" cy="68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347920" y="5637240"/>
            <a:ext cx="100080" cy="101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478240" y="5227560"/>
            <a:ext cx="99720" cy="528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608200" y="5346720"/>
            <a:ext cx="100080" cy="409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738520" y="5262480"/>
            <a:ext cx="100080" cy="408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868480" y="5262480"/>
            <a:ext cx="100080" cy="4413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998800" y="5210280"/>
            <a:ext cx="100080" cy="341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130560" y="5176800"/>
            <a:ext cx="98280" cy="289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259080" y="5245200"/>
            <a:ext cx="101520" cy="357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3390840" y="5313240"/>
            <a:ext cx="98640" cy="324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519360" y="5551560"/>
            <a:ext cx="101880" cy="18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651120" y="5533920"/>
            <a:ext cx="98640" cy="222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781440" y="5245200"/>
            <a:ext cx="100080" cy="458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911760" y="5364000"/>
            <a:ext cx="99720" cy="374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041720" y="5533920"/>
            <a:ext cx="100080" cy="1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172040" y="5584680"/>
            <a:ext cx="100080" cy="15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302000" y="5346720"/>
            <a:ext cx="100080" cy="33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4432320" y="5364000"/>
            <a:ext cx="100080" cy="357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562640" y="5584680"/>
            <a:ext cx="99720" cy="15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694400" y="5364000"/>
            <a:ext cx="98280" cy="203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822920" y="5262480"/>
            <a:ext cx="101520" cy="152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954680" y="5551560"/>
            <a:ext cx="98280" cy="18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083200" y="5703840"/>
            <a:ext cx="101520" cy="5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214960" y="5450040"/>
            <a:ext cx="98280" cy="271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345280" y="5721480"/>
            <a:ext cx="99720" cy="34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475240" y="5432400"/>
            <a:ext cx="100080" cy="289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605560" y="5584680"/>
            <a:ext cx="100080" cy="171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735520" y="5637240"/>
            <a:ext cx="100080" cy="119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865840" y="5397480"/>
            <a:ext cx="100080" cy="358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997600" y="5584680"/>
            <a:ext cx="98280" cy="171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6126120" y="5227560"/>
            <a:ext cx="100080" cy="528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6257880" y="5432400"/>
            <a:ext cx="98640" cy="324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386400" y="5518080"/>
            <a:ext cx="101880" cy="238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6518160" y="5397480"/>
            <a:ext cx="98640" cy="358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6647040" y="5364000"/>
            <a:ext cx="101520" cy="32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778800" y="5450040"/>
            <a:ext cx="98280" cy="236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908760" y="5397480"/>
            <a:ext cx="100080" cy="358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039080" y="5499000"/>
            <a:ext cx="100080" cy="18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7169040" y="5364000"/>
            <a:ext cx="100080" cy="374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7299360" y="5499000"/>
            <a:ext cx="100080" cy="25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7429680" y="5415120"/>
            <a:ext cx="99720" cy="341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7561440" y="5278320"/>
            <a:ext cx="98280" cy="460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7689960" y="5499000"/>
            <a:ext cx="100080" cy="25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7821720" y="5670720"/>
            <a:ext cx="98280" cy="68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7950240" y="5653080"/>
            <a:ext cx="101520" cy="103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8082000" y="5551560"/>
            <a:ext cx="98280" cy="85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784080" y="5619600"/>
            <a:ext cx="100080" cy="33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1305000" y="5483160"/>
            <a:ext cx="100080" cy="349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1955880" y="5192640"/>
            <a:ext cx="101520" cy="176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259080" y="5210280"/>
            <a:ext cx="101520" cy="349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390840" y="5210280"/>
            <a:ext cx="98640" cy="1029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4041720" y="5483160"/>
            <a:ext cx="100080" cy="507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954680" y="5499000"/>
            <a:ext cx="98280" cy="525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345280" y="5686560"/>
            <a:ext cx="99720" cy="349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6908760" y="5380200"/>
            <a:ext cx="100080" cy="172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7039080" y="5364000"/>
            <a:ext cx="100080" cy="13500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7689960" y="5483160"/>
            <a:ext cx="100080" cy="158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7950240" y="5499000"/>
            <a:ext cx="101520" cy="1540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82000" y="5380200"/>
            <a:ext cx="98280" cy="1713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263520" y="5432400"/>
            <a:ext cx="98280" cy="17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23800" y="5637240"/>
            <a:ext cx="98640" cy="4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54120" y="5602320"/>
            <a:ext cx="100080" cy="50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914400" y="5313240"/>
            <a:ext cx="100080" cy="35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044720" y="5584680"/>
            <a:ext cx="99720" cy="349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1305000" y="5432400"/>
            <a:ext cx="100080" cy="50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1434960" y="4751280"/>
            <a:ext cx="100080" cy="7146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566720" y="5450040"/>
            <a:ext cx="98640" cy="1173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1695600" y="5346720"/>
            <a:ext cx="101520" cy="1033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955880" y="5091120"/>
            <a:ext cx="101520" cy="1015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2087640" y="5295960"/>
            <a:ext cx="98280" cy="680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17600" y="5533920"/>
            <a:ext cx="100080" cy="1368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47920" y="5533920"/>
            <a:ext cx="100080" cy="1033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2478240" y="4971960"/>
            <a:ext cx="99720" cy="2556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130560" y="5143680"/>
            <a:ext cx="98280" cy="331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259080" y="5192640"/>
            <a:ext cx="101520" cy="17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390840" y="5143680"/>
            <a:ext cx="98640" cy="666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651120" y="5313240"/>
            <a:ext cx="98640" cy="2206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3781440" y="5176800"/>
            <a:ext cx="100080" cy="684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4694400" y="5278320"/>
            <a:ext cx="98280" cy="856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4822920" y="5245200"/>
            <a:ext cx="101520" cy="17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345280" y="5670720"/>
            <a:ext cx="99720" cy="158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865840" y="5380200"/>
            <a:ext cx="100080" cy="17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997600" y="5483160"/>
            <a:ext cx="98280" cy="1015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778800" y="5432400"/>
            <a:ext cx="98280" cy="17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7299360" y="5483160"/>
            <a:ext cx="100080" cy="158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7821720" y="5551560"/>
            <a:ext cx="98280" cy="1191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7950240" y="5465880"/>
            <a:ext cx="101520" cy="331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1044720" y="5567400"/>
            <a:ext cx="99720" cy="1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217600" y="5499000"/>
            <a:ext cx="100080" cy="3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259080" y="5176800"/>
            <a:ext cx="101520" cy="15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3390840" y="5073480"/>
            <a:ext cx="98640" cy="70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302000" y="5313240"/>
            <a:ext cx="100080" cy="33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4694400" y="5262480"/>
            <a:ext cx="98280" cy="15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605560" y="5346720"/>
            <a:ext cx="100080" cy="237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735520" y="5450040"/>
            <a:ext cx="100080" cy="18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5997600" y="5465880"/>
            <a:ext cx="98280" cy="1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6518160" y="5364000"/>
            <a:ext cx="98640" cy="33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566720" y="5432400"/>
            <a:ext cx="98640" cy="17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955880" y="5057640"/>
            <a:ext cx="101520" cy="33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478240" y="4938840"/>
            <a:ext cx="99720" cy="33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390840" y="5040360"/>
            <a:ext cx="98640" cy="33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519360" y="5499000"/>
            <a:ext cx="101880" cy="52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651120" y="5245200"/>
            <a:ext cx="98640" cy="68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781440" y="5091120"/>
            <a:ext cx="100080" cy="85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5735520" y="5278320"/>
            <a:ext cx="100080" cy="1717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865840" y="5364000"/>
            <a:ext cx="100080" cy="16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5997600" y="5415120"/>
            <a:ext cx="98280" cy="50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654120" y="5551560"/>
            <a:ext cx="100080" cy="507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784080" y="5602320"/>
            <a:ext cx="100080" cy="17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4720" y="5483160"/>
            <a:ext cx="99720" cy="842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174680" y="5670720"/>
            <a:ext cx="100080" cy="158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305000" y="5397480"/>
            <a:ext cx="100080" cy="3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434960" y="4683240"/>
            <a:ext cx="100080" cy="680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566720" y="5380200"/>
            <a:ext cx="98640" cy="52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695600" y="5245200"/>
            <a:ext cx="101520" cy="1015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827360" y="5483160"/>
            <a:ext cx="98280" cy="507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955880" y="4836960"/>
            <a:ext cx="101520" cy="2206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087640" y="5192640"/>
            <a:ext cx="98280" cy="1033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217600" y="5330880"/>
            <a:ext cx="100080" cy="168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347920" y="5313240"/>
            <a:ext cx="100080" cy="2206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2998800" y="5192640"/>
            <a:ext cx="100080" cy="17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130560" y="5073480"/>
            <a:ext cx="98280" cy="70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390840" y="4903920"/>
            <a:ext cx="98640" cy="1364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519360" y="5465880"/>
            <a:ext cx="101880" cy="33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781440" y="5057640"/>
            <a:ext cx="100080" cy="33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041720" y="5450040"/>
            <a:ext cx="100080" cy="33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4172040" y="5551560"/>
            <a:ext cx="100080" cy="33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302000" y="5278320"/>
            <a:ext cx="100080" cy="3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694400" y="5091120"/>
            <a:ext cx="98280" cy="1713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5214960" y="5432400"/>
            <a:ext cx="98280" cy="17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5475240" y="5176800"/>
            <a:ext cx="100080" cy="2556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5605560" y="5245200"/>
            <a:ext cx="100080" cy="1015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735520" y="5192640"/>
            <a:ext cx="100080" cy="856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865840" y="5346720"/>
            <a:ext cx="100080" cy="17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5997600" y="5397480"/>
            <a:ext cx="98280" cy="17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6778800" y="5364000"/>
            <a:ext cx="98280" cy="684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908760" y="5330880"/>
            <a:ext cx="100080" cy="493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7039080" y="5346720"/>
            <a:ext cx="100080" cy="17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7169040" y="5330880"/>
            <a:ext cx="100080" cy="33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7299360" y="5465880"/>
            <a:ext cx="100080" cy="17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561440" y="5262480"/>
            <a:ext cx="98280" cy="158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2998800" y="5176800"/>
            <a:ext cx="100080" cy="158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130560" y="5057640"/>
            <a:ext cx="98280" cy="158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475240" y="5159520"/>
            <a:ext cx="100080" cy="172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997600" y="5380200"/>
            <a:ext cx="98280" cy="172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7169040" y="5313240"/>
            <a:ext cx="100080" cy="176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7299360" y="5450040"/>
            <a:ext cx="100080" cy="158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1434960" y="4649760"/>
            <a:ext cx="100080" cy="33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087640" y="5024520"/>
            <a:ext cx="98280" cy="168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2347920" y="5176800"/>
            <a:ext cx="100080" cy="1364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2998800" y="5126040"/>
            <a:ext cx="100080" cy="5076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130560" y="5024520"/>
            <a:ext cx="98280" cy="33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4302000" y="5262480"/>
            <a:ext cx="100080" cy="158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083200" y="5686560"/>
            <a:ext cx="101520" cy="172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997600" y="5364000"/>
            <a:ext cx="98280" cy="162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7169040" y="5295960"/>
            <a:ext cx="100080" cy="172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7299360" y="5432400"/>
            <a:ext cx="100080" cy="176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7821720" y="5465880"/>
            <a:ext cx="98280" cy="856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1434960" y="4632480"/>
            <a:ext cx="1000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2347920" y="5159520"/>
            <a:ext cx="1000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998800" y="5091120"/>
            <a:ext cx="100080" cy="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130560" y="5005440"/>
            <a:ext cx="98280" cy="1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4172040" y="5533920"/>
            <a:ext cx="10008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997600" y="5346720"/>
            <a:ext cx="982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69040" y="5278320"/>
            <a:ext cx="10008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7299360" y="5415120"/>
            <a:ext cx="1000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7429680" y="5397480"/>
            <a:ext cx="9972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7821720" y="5432400"/>
            <a:ext cx="98280" cy="33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998800" y="5040360"/>
            <a:ext cx="100080" cy="50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130560" y="4989600"/>
            <a:ext cx="98280" cy="15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519360" y="5415120"/>
            <a:ext cx="101880" cy="50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822920" y="5159520"/>
            <a:ext cx="101520" cy="856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954680" y="5415120"/>
            <a:ext cx="98280" cy="838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214960" y="5415120"/>
            <a:ext cx="98280" cy="17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475240" y="5091120"/>
            <a:ext cx="100080" cy="684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605560" y="5176800"/>
            <a:ext cx="100080" cy="684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735520" y="5040360"/>
            <a:ext cx="100080" cy="15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997600" y="5330880"/>
            <a:ext cx="98280" cy="15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126120" y="5126040"/>
            <a:ext cx="100080" cy="1015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6257880" y="5380200"/>
            <a:ext cx="98640" cy="522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518160" y="5330880"/>
            <a:ext cx="98640" cy="331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7039080" y="5330880"/>
            <a:ext cx="100080" cy="15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7169040" y="5262480"/>
            <a:ext cx="100080" cy="15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7299360" y="5397480"/>
            <a:ext cx="100080" cy="17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434960" y="4614840"/>
            <a:ext cx="100080" cy="17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695600" y="5126040"/>
            <a:ext cx="101520" cy="1191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27360" y="5330880"/>
            <a:ext cx="98280" cy="152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955880" y="4632480"/>
            <a:ext cx="101520" cy="204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087640" y="4971960"/>
            <a:ext cx="98280" cy="52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217600" y="5313240"/>
            <a:ext cx="100080" cy="17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2478240" y="4853160"/>
            <a:ext cx="99720" cy="85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2608200" y="5210280"/>
            <a:ext cx="100080" cy="136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2998800" y="5024520"/>
            <a:ext cx="100080" cy="15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130560" y="4956120"/>
            <a:ext cx="98280" cy="3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519360" y="5397480"/>
            <a:ext cx="101880" cy="17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4432320" y="5278320"/>
            <a:ext cx="100080" cy="85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4562640" y="5567400"/>
            <a:ext cx="99720" cy="17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694400" y="4903920"/>
            <a:ext cx="98280" cy="18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4822920" y="5108400"/>
            <a:ext cx="101520" cy="51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083200" y="5670720"/>
            <a:ext cx="101520" cy="15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605560" y="5143680"/>
            <a:ext cx="100080" cy="33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5735520" y="4903920"/>
            <a:ext cx="100080" cy="136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997600" y="5313240"/>
            <a:ext cx="98280" cy="17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6647040" y="5330880"/>
            <a:ext cx="101520" cy="33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7039080" y="5210280"/>
            <a:ext cx="100080" cy="120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7169040" y="5159520"/>
            <a:ext cx="100080" cy="1029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7299360" y="5380200"/>
            <a:ext cx="100080" cy="17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7429680" y="5330880"/>
            <a:ext cx="99720" cy="66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7821720" y="5415120"/>
            <a:ext cx="98280" cy="17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23800" y="5619600"/>
            <a:ext cx="9864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654120" y="5533920"/>
            <a:ext cx="10008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305000" y="5313240"/>
            <a:ext cx="100080" cy="84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695600" y="5108400"/>
            <a:ext cx="10152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827360" y="5313240"/>
            <a:ext cx="9828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2087640" y="4956120"/>
            <a:ext cx="98280" cy="15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2347920" y="5126040"/>
            <a:ext cx="100080" cy="33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2478240" y="4802040"/>
            <a:ext cx="99720" cy="51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738520" y="5210280"/>
            <a:ext cx="100080" cy="52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2868480" y="5245200"/>
            <a:ext cx="100080" cy="17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2998800" y="4989600"/>
            <a:ext cx="100080" cy="3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130560" y="4938840"/>
            <a:ext cx="98280" cy="17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4562640" y="5551560"/>
            <a:ext cx="99720" cy="15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4694400" y="4836960"/>
            <a:ext cx="98280" cy="6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822920" y="5091120"/>
            <a:ext cx="101520" cy="17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5083200" y="5653080"/>
            <a:ext cx="10152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345280" y="5637240"/>
            <a:ext cx="99720" cy="33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5865840" y="5278320"/>
            <a:ext cx="100080" cy="68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126120" y="5040360"/>
            <a:ext cx="100080" cy="85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6647040" y="5126040"/>
            <a:ext cx="101520" cy="204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6778800" y="5330880"/>
            <a:ext cx="98280" cy="33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6908760" y="5245200"/>
            <a:ext cx="100080" cy="85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7039080" y="5126040"/>
            <a:ext cx="100080" cy="84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7299360" y="5364000"/>
            <a:ext cx="100080" cy="1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7429680" y="5295960"/>
            <a:ext cx="99720" cy="3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7561440" y="5245200"/>
            <a:ext cx="98280" cy="17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7821720" y="5380200"/>
            <a:ext cx="98280" cy="3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263520" y="5397480"/>
            <a:ext cx="98280" cy="3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695600" y="5091120"/>
            <a:ext cx="10152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827360" y="5295960"/>
            <a:ext cx="9828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2217600" y="5295960"/>
            <a:ext cx="10008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738520" y="5176800"/>
            <a:ext cx="100080" cy="3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868480" y="5159520"/>
            <a:ext cx="100080" cy="85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998800" y="4802040"/>
            <a:ext cx="100080" cy="18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3130560" y="4734000"/>
            <a:ext cx="98280" cy="20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4302000" y="5245200"/>
            <a:ext cx="10008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4562640" y="5533920"/>
            <a:ext cx="99720" cy="1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4694400" y="4819680"/>
            <a:ext cx="9828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345280" y="5584680"/>
            <a:ext cx="99720" cy="52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7821720" y="5364000"/>
            <a:ext cx="98280" cy="1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63520" y="5346720"/>
            <a:ext cx="98280" cy="507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305000" y="5295960"/>
            <a:ext cx="10008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695600" y="5073480"/>
            <a:ext cx="10152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827360" y="5278320"/>
            <a:ext cx="9828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478240" y="4784760"/>
            <a:ext cx="9972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2738520" y="5159520"/>
            <a:ext cx="10008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2868480" y="5143680"/>
            <a:ext cx="100080" cy="1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3519360" y="5380200"/>
            <a:ext cx="10188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781440" y="4903920"/>
            <a:ext cx="100080" cy="153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4041720" y="5432400"/>
            <a:ext cx="10008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4562640" y="5518080"/>
            <a:ext cx="99720" cy="1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4694400" y="4802040"/>
            <a:ext cx="9828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083200" y="5567400"/>
            <a:ext cx="101520" cy="85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345280" y="5551560"/>
            <a:ext cx="99720" cy="331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735520" y="4886280"/>
            <a:ext cx="10008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997600" y="5295960"/>
            <a:ext cx="9828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7429680" y="5278320"/>
            <a:ext cx="9972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7950240" y="5450040"/>
            <a:ext cx="101520" cy="1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54120" y="5432400"/>
            <a:ext cx="100080" cy="101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695600" y="5057640"/>
            <a:ext cx="10152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1827360" y="5262480"/>
            <a:ext cx="9828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2738520" y="5143680"/>
            <a:ext cx="10008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911760" y="5346720"/>
            <a:ext cx="99720" cy="172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4302000" y="5227560"/>
            <a:ext cx="100080" cy="176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4562640" y="5499000"/>
            <a:ext cx="99720" cy="19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4694400" y="4784760"/>
            <a:ext cx="98280" cy="172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345280" y="5518080"/>
            <a:ext cx="99720" cy="334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735520" y="4870440"/>
            <a:ext cx="10008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865840" y="5262480"/>
            <a:ext cx="10008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7950240" y="5245200"/>
            <a:ext cx="101520" cy="204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1305000" y="5262480"/>
            <a:ext cx="100080" cy="334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2087640" y="4938840"/>
            <a:ext cx="98280" cy="17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2347920" y="5108400"/>
            <a:ext cx="100080" cy="17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78240" y="4734000"/>
            <a:ext cx="99720" cy="507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2608200" y="5192640"/>
            <a:ext cx="100080" cy="17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651120" y="5210280"/>
            <a:ext cx="98640" cy="349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4041720" y="5415120"/>
            <a:ext cx="100080" cy="17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562640" y="5483160"/>
            <a:ext cx="99720" cy="15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4694400" y="4683240"/>
            <a:ext cx="98280" cy="101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822920" y="5073480"/>
            <a:ext cx="101520" cy="17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083200" y="5551560"/>
            <a:ext cx="101520" cy="15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7169040" y="5143680"/>
            <a:ext cx="100080" cy="15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7561440" y="5227560"/>
            <a:ext cx="98280" cy="17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7689960" y="5465880"/>
            <a:ext cx="100080" cy="17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23800" y="5584680"/>
            <a:ext cx="9864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1305000" y="5245200"/>
            <a:ext cx="100080" cy="17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1566720" y="5364000"/>
            <a:ext cx="98640" cy="16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955880" y="4597560"/>
            <a:ext cx="10152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087640" y="4903920"/>
            <a:ext cx="982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217600" y="5278320"/>
            <a:ext cx="100080" cy="17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347920" y="5073480"/>
            <a:ext cx="1000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2478240" y="4699080"/>
            <a:ext cx="9972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608200" y="5176800"/>
            <a:ext cx="100080" cy="15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998800" y="4751280"/>
            <a:ext cx="100080" cy="5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130560" y="4699080"/>
            <a:ext cx="982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259080" y="5108400"/>
            <a:ext cx="101520" cy="68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781440" y="4886280"/>
            <a:ext cx="100080" cy="17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4172040" y="5518080"/>
            <a:ext cx="100080" cy="15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4822920" y="5057640"/>
            <a:ext cx="101520" cy="15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5214960" y="5380200"/>
            <a:ext cx="982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865840" y="5176800"/>
            <a:ext cx="10008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6647040" y="5073480"/>
            <a:ext cx="101520" cy="52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778800" y="5262480"/>
            <a:ext cx="98280" cy="68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6908760" y="5159520"/>
            <a:ext cx="10008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039080" y="5091120"/>
            <a:ext cx="1000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7561440" y="5192640"/>
            <a:ext cx="982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7821720" y="5278320"/>
            <a:ext cx="9828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434960" y="4597560"/>
            <a:ext cx="100080" cy="172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1955880" y="4579920"/>
            <a:ext cx="101520" cy="17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041720" y="5380200"/>
            <a:ext cx="100080" cy="349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954680" y="5397480"/>
            <a:ext cx="98280" cy="17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6778800" y="5227560"/>
            <a:ext cx="98280" cy="349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1955880" y="4564080"/>
            <a:ext cx="101520" cy="158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3519360" y="5364000"/>
            <a:ext cx="101880" cy="162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5997600" y="5192640"/>
            <a:ext cx="98280" cy="1033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6126120" y="5005440"/>
            <a:ext cx="100080" cy="349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257880" y="5330880"/>
            <a:ext cx="98640" cy="493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6647040" y="5057640"/>
            <a:ext cx="101520" cy="158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7039080" y="5073480"/>
            <a:ext cx="100080" cy="17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169040" y="5108400"/>
            <a:ext cx="100080" cy="35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4041720" y="5364000"/>
            <a:ext cx="100080" cy="16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997600" y="5159520"/>
            <a:ext cx="98280" cy="33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6126120" y="4971960"/>
            <a:ext cx="100080" cy="334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6257880" y="4273560"/>
            <a:ext cx="98640" cy="10573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6386400" y="3730680"/>
            <a:ext cx="101880" cy="1787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518160" y="5176800"/>
            <a:ext cx="98640" cy="1540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6647040" y="5040360"/>
            <a:ext cx="101520" cy="172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7039080" y="5057640"/>
            <a:ext cx="100080" cy="15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7299360" y="5330880"/>
            <a:ext cx="100080" cy="33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63520" y="5330880"/>
            <a:ext cx="98280" cy="158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1955880" y="4462560"/>
            <a:ext cx="101520" cy="1015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2217600" y="5262480"/>
            <a:ext cx="100080" cy="158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302000" y="5210280"/>
            <a:ext cx="100080" cy="17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5083200" y="5533920"/>
            <a:ext cx="101520" cy="17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7561440" y="5176800"/>
            <a:ext cx="98280" cy="158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7689960" y="5397480"/>
            <a:ext cx="100080" cy="684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654120" y="5397480"/>
            <a:ext cx="100080" cy="349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2478240" y="4649760"/>
            <a:ext cx="99720" cy="493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694400" y="4665600"/>
            <a:ext cx="98280" cy="176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4954680" y="5364000"/>
            <a:ext cx="98280" cy="33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434960" y="4546440"/>
            <a:ext cx="100080" cy="511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2347920" y="5057640"/>
            <a:ext cx="100080" cy="15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3519360" y="5346720"/>
            <a:ext cx="101880" cy="172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822920" y="5005440"/>
            <a:ext cx="101520" cy="52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7429680" y="5262480"/>
            <a:ext cx="99720" cy="15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4172040" y="5483160"/>
            <a:ext cx="100080" cy="349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8082000" y="5227560"/>
            <a:ext cx="98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174680" y="5619600"/>
            <a:ext cx="100080" cy="5112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1305000" y="5176800"/>
            <a:ext cx="100080" cy="6840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434960" y="4478400"/>
            <a:ext cx="100080" cy="6804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4172040" y="5432400"/>
            <a:ext cx="100080" cy="50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475240" y="5073480"/>
            <a:ext cx="100080" cy="1764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784080" y="5567400"/>
            <a:ext cx="100080" cy="349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2478240" y="4632480"/>
            <a:ext cx="99720" cy="1728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6257880" y="4257720"/>
            <a:ext cx="98640" cy="158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174680" y="5602320"/>
            <a:ext cx="100080" cy="1728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1305000" y="5143680"/>
            <a:ext cx="100080" cy="3312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1434960" y="4462560"/>
            <a:ext cx="100080" cy="1584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087640" y="4886280"/>
            <a:ext cx="98280" cy="1764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2347920" y="5040360"/>
            <a:ext cx="100080" cy="1728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2868480" y="5126040"/>
            <a:ext cx="100080" cy="1764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174680" y="5584680"/>
            <a:ext cx="100080" cy="1764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305000" y="5108400"/>
            <a:ext cx="100080" cy="3528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434960" y="4444920"/>
            <a:ext cx="100080" cy="1764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475240" y="5057640"/>
            <a:ext cx="100080" cy="1584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174680" y="5567400"/>
            <a:ext cx="100080" cy="17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1305000" y="5057640"/>
            <a:ext cx="100080" cy="507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1434960" y="4359240"/>
            <a:ext cx="100080" cy="856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1566720" y="5346720"/>
            <a:ext cx="98640" cy="17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519360" y="5330880"/>
            <a:ext cx="101880" cy="1584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651120" y="5176800"/>
            <a:ext cx="98640" cy="334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781440" y="4767120"/>
            <a:ext cx="100080" cy="1191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911760" y="5057640"/>
            <a:ext cx="99720" cy="2890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041720" y="4921200"/>
            <a:ext cx="100080" cy="4428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4172040" y="4989600"/>
            <a:ext cx="100080" cy="4428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302000" y="4784760"/>
            <a:ext cx="100080" cy="4255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432320" y="5126040"/>
            <a:ext cx="100080" cy="152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562640" y="5465880"/>
            <a:ext cx="99720" cy="17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694400" y="4564080"/>
            <a:ext cx="98280" cy="1015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822920" y="4564080"/>
            <a:ext cx="101520" cy="4413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4954680" y="5346720"/>
            <a:ext cx="98280" cy="17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35520" y="4734000"/>
            <a:ext cx="100080" cy="13644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865840" y="5057640"/>
            <a:ext cx="100080" cy="1191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997600" y="5040360"/>
            <a:ext cx="98280" cy="1191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6126120" y="4632480"/>
            <a:ext cx="100080" cy="3394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6257880" y="3898800"/>
            <a:ext cx="98640" cy="3589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386400" y="3524400"/>
            <a:ext cx="101880" cy="206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6518160" y="5126040"/>
            <a:ext cx="98640" cy="507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7429680" y="4886280"/>
            <a:ext cx="99720" cy="3762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7561440" y="4802040"/>
            <a:ext cx="98280" cy="3747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8082000" y="5143680"/>
            <a:ext cx="98280" cy="838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263520" y="5278320"/>
            <a:ext cx="98280" cy="525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392040" y="5483160"/>
            <a:ext cx="101520" cy="101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523800" y="5483160"/>
            <a:ext cx="98640" cy="101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54120" y="5176800"/>
            <a:ext cx="100080" cy="2206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784080" y="5499000"/>
            <a:ext cx="100080" cy="684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914400" y="5295960"/>
            <a:ext cx="100080" cy="1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1044720" y="5465880"/>
            <a:ext cx="99720" cy="1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174680" y="5551560"/>
            <a:ext cx="100080" cy="158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1305000" y="4956120"/>
            <a:ext cx="100080" cy="101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434960" y="3916440"/>
            <a:ext cx="100080" cy="4428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566720" y="4718160"/>
            <a:ext cx="98640" cy="6285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695600" y="4956120"/>
            <a:ext cx="101520" cy="101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827360" y="5126040"/>
            <a:ext cx="98280" cy="1364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955880" y="4273560"/>
            <a:ext cx="101520" cy="1890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2087640" y="4649760"/>
            <a:ext cx="98280" cy="236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2217600" y="5091120"/>
            <a:ext cx="100080" cy="171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347920" y="4971960"/>
            <a:ext cx="100080" cy="684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2738520" y="4257720"/>
            <a:ext cx="100080" cy="8859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868480" y="3984480"/>
            <a:ext cx="100080" cy="11415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2998800" y="4734000"/>
            <a:ext cx="100080" cy="1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130560" y="4683240"/>
            <a:ext cx="98280" cy="158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519360" y="5295960"/>
            <a:ext cx="101880" cy="349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651120" y="5143680"/>
            <a:ext cx="98640" cy="33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911760" y="5024520"/>
            <a:ext cx="99720" cy="33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562640" y="5380200"/>
            <a:ext cx="99720" cy="856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4822920" y="4511520"/>
            <a:ext cx="101520" cy="525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083200" y="5176800"/>
            <a:ext cx="101520" cy="357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14960" y="4819680"/>
            <a:ext cx="98280" cy="560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345280" y="5346720"/>
            <a:ext cx="99720" cy="171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5605560" y="5126040"/>
            <a:ext cx="100080" cy="176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735520" y="4478400"/>
            <a:ext cx="100080" cy="2556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997600" y="4870440"/>
            <a:ext cx="98280" cy="1699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6126120" y="4495680"/>
            <a:ext cx="100080" cy="1368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6257880" y="3695760"/>
            <a:ext cx="98640" cy="203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6386400" y="3252960"/>
            <a:ext cx="101880" cy="2714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6518160" y="4903920"/>
            <a:ext cx="98640" cy="222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647040" y="4870440"/>
            <a:ext cx="101520" cy="1699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6778800" y="5176800"/>
            <a:ext cx="98280" cy="507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7039080" y="4989600"/>
            <a:ext cx="100080" cy="68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7169040" y="4989600"/>
            <a:ext cx="100080" cy="1188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7429680" y="4579920"/>
            <a:ext cx="99720" cy="306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7561440" y="4665600"/>
            <a:ext cx="98280" cy="1364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7689960" y="5330880"/>
            <a:ext cx="100080" cy="666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7821720" y="5057640"/>
            <a:ext cx="98280" cy="2206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7950240" y="4989600"/>
            <a:ext cx="101520" cy="2556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8082000" y="5057640"/>
            <a:ext cx="98280" cy="86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390840" y="4886280"/>
            <a:ext cx="98640" cy="176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4302000" y="4734000"/>
            <a:ext cx="100080" cy="507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694400" y="4511520"/>
            <a:ext cx="98280" cy="5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4822920" y="4495680"/>
            <a:ext cx="101520" cy="158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345280" y="5330880"/>
            <a:ext cx="99720" cy="158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6126120" y="4478400"/>
            <a:ext cx="100080" cy="17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6647040" y="4819680"/>
            <a:ext cx="101520" cy="507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7039080" y="4956120"/>
            <a:ext cx="100080" cy="334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950240" y="4971960"/>
            <a:ext cx="101520" cy="176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392040" y="5380200"/>
            <a:ext cx="101520" cy="10296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784080" y="5465880"/>
            <a:ext cx="100080" cy="3312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305000" y="4921200"/>
            <a:ext cx="100080" cy="3492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434960" y="3898800"/>
            <a:ext cx="100080" cy="1764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955880" y="4257720"/>
            <a:ext cx="101520" cy="1584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2868480" y="3967200"/>
            <a:ext cx="100080" cy="172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4302000" y="4665600"/>
            <a:ext cx="100080" cy="6840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4694400" y="4478400"/>
            <a:ext cx="98280" cy="3312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822920" y="4478400"/>
            <a:ext cx="101520" cy="172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4954680" y="5330880"/>
            <a:ext cx="98280" cy="1584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5083200" y="5159520"/>
            <a:ext cx="101520" cy="172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92040" y="5364000"/>
            <a:ext cx="101520" cy="16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434960" y="388296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1695600" y="4921200"/>
            <a:ext cx="101520" cy="3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087640" y="4632480"/>
            <a:ext cx="98280" cy="17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2347920" y="495612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2868480" y="3933720"/>
            <a:ext cx="100080" cy="33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2998800" y="4699080"/>
            <a:ext cx="100080" cy="3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390840" y="4870440"/>
            <a:ext cx="9864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651120" y="5126040"/>
            <a:ext cx="9864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3781440" y="475128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3911760" y="4971960"/>
            <a:ext cx="9972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4041720" y="4903920"/>
            <a:ext cx="100080" cy="17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4172040" y="4971960"/>
            <a:ext cx="10008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4302000" y="4546440"/>
            <a:ext cx="100080" cy="119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32320" y="5108400"/>
            <a:ext cx="10008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4694400" y="4427640"/>
            <a:ext cx="9828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822920" y="4444920"/>
            <a:ext cx="101520" cy="33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954680" y="5278320"/>
            <a:ext cx="9828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214960" y="4784760"/>
            <a:ext cx="98280" cy="3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6126120" y="446256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647040" y="4802040"/>
            <a:ext cx="10152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908760" y="514368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7561440" y="4614840"/>
            <a:ext cx="9828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7689960" y="5313240"/>
            <a:ext cx="10008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7821720" y="5005440"/>
            <a:ext cx="98280" cy="52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2868480" y="3916440"/>
            <a:ext cx="100080" cy="1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2998800" y="4649760"/>
            <a:ext cx="100080" cy="4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302000" y="4511520"/>
            <a:ext cx="100080" cy="3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4694400" y="4376880"/>
            <a:ext cx="98280" cy="5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4822920" y="4376880"/>
            <a:ext cx="101520" cy="6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6908760" y="5126040"/>
            <a:ext cx="100080" cy="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23800" y="5465880"/>
            <a:ext cx="98640" cy="17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434960" y="3865680"/>
            <a:ext cx="100080" cy="17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3911760" y="4699080"/>
            <a:ext cx="99720" cy="272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4694400" y="4359240"/>
            <a:ext cx="98280" cy="17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4822920" y="4359240"/>
            <a:ext cx="101520" cy="17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5865840" y="5005440"/>
            <a:ext cx="100080" cy="5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6647040" y="4699080"/>
            <a:ext cx="101520" cy="1029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6778800" y="4597560"/>
            <a:ext cx="98280" cy="579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908760" y="5108400"/>
            <a:ext cx="100080" cy="17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7429680" y="2809800"/>
            <a:ext cx="99720" cy="1770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7561440" y="2179800"/>
            <a:ext cx="98280" cy="24350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7689960" y="4410000"/>
            <a:ext cx="100080" cy="903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7821720" y="4989600"/>
            <a:ext cx="98280" cy="15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7950240" y="4956120"/>
            <a:ext cx="101520" cy="15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523800" y="5450040"/>
            <a:ext cx="98640" cy="15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434960" y="3813120"/>
            <a:ext cx="100080" cy="52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087640" y="4579920"/>
            <a:ext cx="98280" cy="52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347920" y="4938840"/>
            <a:ext cx="1000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2478240" y="4579920"/>
            <a:ext cx="99720" cy="52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738520" y="4224240"/>
            <a:ext cx="100080" cy="33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2868480" y="3865680"/>
            <a:ext cx="100080" cy="50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2998800" y="4614840"/>
            <a:ext cx="100080" cy="3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3390840" y="4853160"/>
            <a:ext cx="9864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3781440" y="4734000"/>
            <a:ext cx="1000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911760" y="4683240"/>
            <a:ext cx="99720" cy="15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4954680" y="5262480"/>
            <a:ext cx="98280" cy="15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5214960" y="4767120"/>
            <a:ext cx="98280" cy="17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735520" y="4427640"/>
            <a:ext cx="100080" cy="50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5997600" y="4853160"/>
            <a:ext cx="982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6126120" y="4444920"/>
            <a:ext cx="100080" cy="17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6386400" y="3236760"/>
            <a:ext cx="101880" cy="16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6647040" y="4564080"/>
            <a:ext cx="101520" cy="135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6908760" y="5091120"/>
            <a:ext cx="1000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8082000" y="5040360"/>
            <a:ext cx="982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478240" y="3645000"/>
            <a:ext cx="99720" cy="9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2608200" y="5108400"/>
            <a:ext cx="100080" cy="68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2738520" y="4119480"/>
            <a:ext cx="100080" cy="1047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868480" y="3780000"/>
            <a:ext cx="100080" cy="856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2998800" y="4546440"/>
            <a:ext cx="100080" cy="68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3130560" y="4649760"/>
            <a:ext cx="98280" cy="33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3519360" y="5245200"/>
            <a:ext cx="101880" cy="507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3651120" y="5108400"/>
            <a:ext cx="9864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781440" y="4718160"/>
            <a:ext cx="100080" cy="15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3911760" y="4530600"/>
            <a:ext cx="99720" cy="152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4041720" y="4699080"/>
            <a:ext cx="100080" cy="204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4172040" y="4614840"/>
            <a:ext cx="100080" cy="3571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4302000" y="3849840"/>
            <a:ext cx="100080" cy="6616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4432320" y="4649760"/>
            <a:ext cx="100080" cy="458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4562640" y="5176800"/>
            <a:ext cx="99720" cy="203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694400" y="4257720"/>
            <a:ext cx="98280" cy="101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4822920" y="4156200"/>
            <a:ext cx="101520" cy="2030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954680" y="4956120"/>
            <a:ext cx="98280" cy="3063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5083200" y="4802040"/>
            <a:ext cx="101520" cy="357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214960" y="4224240"/>
            <a:ext cx="98280" cy="542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345280" y="5126040"/>
            <a:ext cx="99720" cy="204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475240" y="4903920"/>
            <a:ext cx="100080" cy="15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5605560" y="5091120"/>
            <a:ext cx="100080" cy="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5735520" y="4392720"/>
            <a:ext cx="100080" cy="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997600" y="4836960"/>
            <a:ext cx="98280" cy="162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6126120" y="4325760"/>
            <a:ext cx="100080" cy="119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6257880" y="3473280"/>
            <a:ext cx="98640" cy="222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6386400" y="3218040"/>
            <a:ext cx="101880" cy="18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7169040" y="4971960"/>
            <a:ext cx="10008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7299360" y="5295960"/>
            <a:ext cx="100080" cy="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7689960" y="4392720"/>
            <a:ext cx="1000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7950240" y="4938840"/>
            <a:ext cx="10152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8082000" y="4921200"/>
            <a:ext cx="98280" cy="119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247680" y="1498680"/>
            <a:ext cx="0" cy="425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217440" y="575640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217440" y="490392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217440" y="40528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217440" y="320184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217440" y="235116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217440" y="14986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47680" y="5756400"/>
            <a:ext cx="7948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2476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3780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5079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 flipV="1">
            <a:off x="6382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7700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8985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10303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1588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12906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14191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15508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16812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18111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9414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20718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22017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23335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4620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25938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27226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 flipV="1">
            <a:off x="28544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29829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31147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32446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33750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35053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36352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37656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38973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V="1">
            <a:off x="40258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41576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V="1">
            <a:off x="42861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V="1">
            <a:off x="44179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V="1">
            <a:off x="45464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46782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48085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49388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50688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51991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53290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54608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55897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 flipV="1">
            <a:off x="57214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58500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V="1">
            <a:off x="59817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61117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62420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63723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65023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66326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67626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68929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70246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71532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72849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74134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 flipV="1">
            <a:off x="75452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76755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78058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79358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80661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81961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136440" y="569448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81360" y="4843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24480" y="3992400"/>
            <a:ext cx="1699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24480" y="3139920"/>
            <a:ext cx="1699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24480" y="2289240"/>
            <a:ext cx="1699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4480" y="1438200"/>
            <a:ext cx="1699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rot="16200000">
            <a:off x="27468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 rot="16200000">
            <a:off x="40464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rot="16200000">
            <a:off x="53496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rot="16200000">
            <a:off x="66492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rot="16200000">
            <a:off x="79668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 rot="16200000">
            <a:off x="92520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rot="16200000">
            <a:off x="105732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rot="16200000">
            <a:off x="118584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 rot="16200000">
            <a:off x="131760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rot="16200000">
            <a:off x="14180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rot="16200000">
            <a:off x="154980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rot="16200000">
            <a:off x="167976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rot="16200000">
            <a:off x="181008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rot="16200000">
            <a:off x="19418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rot="16200000">
            <a:off x="207360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rot="16200000">
            <a:off x="220392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 rot="16200000">
            <a:off x="233568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 rot="16200000">
            <a:off x="246420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rot="16200000">
            <a:off x="259596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rot="16200000">
            <a:off x="272448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 rot="16200000">
            <a:off x="28562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 rot="16200000">
            <a:off x="298476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 rot="16200000">
            <a:off x="311652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rot="16200000">
            <a:off x="324684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rot="16200000">
            <a:off x="337680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rot="16200000">
            <a:off x="350712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 rot="16200000">
            <a:off x="363744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rot="16200000">
            <a:off x="376740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rot="16200000">
            <a:off x="389916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rot="16200000">
            <a:off x="402768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rot="16200000">
            <a:off x="418752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rot="16200000">
            <a:off x="431640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 rot="16200000">
            <a:off x="444636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rot="16200000">
            <a:off x="457668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rot="16200000">
            <a:off x="470664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 rot="16200000">
            <a:off x="483840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rot="16200000">
            <a:off x="496728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rot="16200000">
            <a:off x="509904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 rot="16200000">
            <a:off x="522756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rot="16200000">
            <a:off x="533124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rot="16200000">
            <a:off x="546120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 rot="16200000">
            <a:off x="559152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rot="16200000">
            <a:off x="572184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 rot="16200000">
            <a:off x="585036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 rot="16200000">
            <a:off x="598212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rot="16200000">
            <a:off x="611208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rot="16200000">
            <a:off x="624240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 rot="16200000">
            <a:off x="637416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rot="16200000">
            <a:off x="650268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 rot="16200000">
            <a:off x="66344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rot="16200000">
            <a:off x="676296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rot="16200000">
            <a:off x="689472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rot="16200000">
            <a:off x="70250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rot="16200000">
            <a:off x="715536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rot="16200000">
            <a:off x="728532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 rot="16200000">
            <a:off x="741564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rot="16200000">
            <a:off x="754560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rot="16200000">
            <a:off x="767592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rot="16200000">
            <a:off x="780624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rot="16200000">
            <a:off x="793800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rot="16200000">
            <a:off x="806652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3780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079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6382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7700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8985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10303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11588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2906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4191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5508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6812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18111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9414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20718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22017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23335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4620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25938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27226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28544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29829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31147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2446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33750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5053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36352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37656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8973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0258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2861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44179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45464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46782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48085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49388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50688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51991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53290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54608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55897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7214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8500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59817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61117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2420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63723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65023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6326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67626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8929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70246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71532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72849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74134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75452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76755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78058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79358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80661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2195640" y="601668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6142320" y="601668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247680" y="5756400"/>
            <a:ext cx="0" cy="38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8196120" y="5756400"/>
            <a:ext cx="0" cy="38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4157640" y="5756400"/>
            <a:ext cx="0" cy="38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8296200" y="1273320"/>
            <a:ext cx="757440" cy="4868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8323200" y="1305000"/>
            <a:ext cx="33480" cy="331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8375400" y="1293840"/>
            <a:ext cx="681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7-Av. Hipolito Yrigoye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8323200" y="1413000"/>
            <a:ext cx="33480" cy="3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8380080" y="1401840"/>
            <a:ext cx="4197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6-Pueyrred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8323200" y="1522440"/>
            <a:ext cx="33480" cy="33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8380080" y="1509840"/>
            <a:ext cx="369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5-Rivadavi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8323200" y="1630440"/>
            <a:ext cx="33480" cy="3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8380800" y="1617840"/>
            <a:ext cx="2642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4-Irigo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8323200" y="1738440"/>
            <a:ext cx="33480" cy="33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8380440" y="1725480"/>
            <a:ext cx="541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3-Bartolome Mitr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8323200" y="1846440"/>
            <a:ext cx="33480" cy="3312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8380800" y="1833480"/>
            <a:ext cx="226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2-Itali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8323200" y="1954080"/>
            <a:ext cx="33480" cy="334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8381160" y="1943280"/>
            <a:ext cx="309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1-Cones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8323200" y="2062080"/>
            <a:ext cx="33480" cy="349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8382600" y="2050920"/>
            <a:ext cx="261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0-Pard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8323200" y="2171880"/>
            <a:ext cx="33480" cy="331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8380080" y="2158920"/>
            <a:ext cx="384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9-Corrient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8323200" y="2279520"/>
            <a:ext cx="33480" cy="3348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8379000" y="2266920"/>
            <a:ext cx="3985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8-Sourdea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8323200" y="2387520"/>
            <a:ext cx="33480" cy="3348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79720" y="2374920"/>
            <a:ext cx="399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7-San Mart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8323200" y="2495520"/>
            <a:ext cx="33480" cy="3348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8378280" y="2482920"/>
            <a:ext cx="640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6-Av. Senador Mor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8323200" y="2603520"/>
            <a:ext cx="33480" cy="3348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8379360" y="2592360"/>
            <a:ext cx="451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5-Gral Villeg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8323200" y="2711520"/>
            <a:ext cx="33480" cy="33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8379360" y="2700360"/>
            <a:ext cx="4273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4-Granadero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8323200" y="2820960"/>
            <a:ext cx="33480" cy="334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8380080" y="2808360"/>
            <a:ext cx="352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2-Jaurech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8323200" y="2928960"/>
            <a:ext cx="33480" cy="33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8382240" y="2916360"/>
            <a:ext cx="4381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1-Niceto Veg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8323200" y="3036960"/>
            <a:ext cx="33480" cy="331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8382240" y="3024360"/>
            <a:ext cx="3772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1-Necoche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8323200" y="3144960"/>
            <a:ext cx="33480" cy="33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8379360" y="3132000"/>
            <a:ext cx="582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0-Benigno Ocamp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8323200" y="3252960"/>
            <a:ext cx="33480" cy="33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8379360" y="3241800"/>
            <a:ext cx="5371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9-Gral. Rodriguez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8323200" y="3360600"/>
            <a:ext cx="33480" cy="334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8380440" y="3349800"/>
            <a:ext cx="3495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8-Matienz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8323200" y="3470400"/>
            <a:ext cx="33480" cy="331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8375760" y="3457440"/>
            <a:ext cx="703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7-Boulevard San Mart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8323200" y="3578400"/>
            <a:ext cx="33480" cy="33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8379360" y="3565440"/>
            <a:ext cx="4532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6-Gral. Horno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323200" y="3686040"/>
            <a:ext cx="33480" cy="334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376480" y="3673440"/>
            <a:ext cx="660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5-Lisandro de la Torr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8323200" y="3794040"/>
            <a:ext cx="33480" cy="334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8381160" y="3781440"/>
            <a:ext cx="4366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4-Av. Amer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8323200" y="3902040"/>
            <a:ext cx="33480" cy="33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8380800" y="3889440"/>
            <a:ext cx="451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3-Av. Gral Paz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8323200" y="4010040"/>
            <a:ext cx="33480" cy="3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8379720" y="3998880"/>
            <a:ext cx="480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2-Benito Juarez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8323200" y="4118040"/>
            <a:ext cx="33480" cy="3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8380080" y="4106880"/>
            <a:ext cx="424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1-Nueva Yor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8323200" y="4227480"/>
            <a:ext cx="33480" cy="3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8378640" y="4214880"/>
            <a:ext cx="3452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0-Chivilco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8323200" y="4335480"/>
            <a:ext cx="33480" cy="334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8380080" y="4322880"/>
            <a:ext cx="351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9-Av. Beir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8323200" y="4443480"/>
            <a:ext cx="33480" cy="331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8381520" y="4430880"/>
            <a:ext cx="5295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8-Emilio Lamar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8323200" y="4551480"/>
            <a:ext cx="33480" cy="33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8383680" y="4538520"/>
            <a:ext cx="3664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7-Campa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8323200" y="4659480"/>
            <a:ext cx="33480" cy="331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8381160" y="4648320"/>
            <a:ext cx="309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6-Cuen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8323200" y="4767120"/>
            <a:ext cx="33480" cy="3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82600" y="4756320"/>
            <a:ext cx="2721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5-Naz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8323200" y="4876920"/>
            <a:ext cx="33480" cy="33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8382600" y="4863960"/>
            <a:ext cx="309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4-Nogoy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8323200" y="4984920"/>
            <a:ext cx="33480" cy="33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8383320" y="4971960"/>
            <a:ext cx="451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3-Empedrado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8323200" y="5092560"/>
            <a:ext cx="33480" cy="334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8380440" y="5079960"/>
            <a:ext cx="282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2-Trell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8323200" y="5200560"/>
            <a:ext cx="33480" cy="33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8381520" y="5187960"/>
            <a:ext cx="5187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1-Jorge Newber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8323200" y="5308560"/>
            <a:ext cx="33480" cy="33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8381520" y="5297400"/>
            <a:ext cx="3222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0-Girardo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8323200" y="5416560"/>
            <a:ext cx="33480" cy="3492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8379360" y="5405400"/>
            <a:ext cx="4960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8-Av. Corrient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8323200" y="5526000"/>
            <a:ext cx="33480" cy="3348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8382600" y="5513400"/>
            <a:ext cx="3178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7-Velazc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8323200" y="5634000"/>
            <a:ext cx="33480" cy="3348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8381160" y="5621400"/>
            <a:ext cx="2779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6-Loyol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8323200" y="5742000"/>
            <a:ext cx="33480" cy="3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8381520" y="5729400"/>
            <a:ext cx="4456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5-Av. Cordob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8323200" y="5850000"/>
            <a:ext cx="33480" cy="3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8382240" y="5837400"/>
            <a:ext cx="3207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3-Cabrer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8323200" y="5958000"/>
            <a:ext cx="33480" cy="33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8380080" y="5946840"/>
            <a:ext cx="2660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2-Gorriti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8323200" y="6066000"/>
            <a:ext cx="33480" cy="349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8380440" y="6054840"/>
            <a:ext cx="3664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1-Hondur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-112680" y="895320"/>
            <a:ext cx="430200" cy="163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-67320" y="903240"/>
            <a:ext cx="39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318960" y="895320"/>
            <a:ext cx="228600" cy="163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67920" y="903240"/>
            <a:ext cx="1911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247680" y="1309680"/>
            <a:ext cx="944640" cy="163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295560" y="1317600"/>
            <a:ext cx="906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unt of 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3963960" y="6297480"/>
            <a:ext cx="277920" cy="163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4010040" y="6305400"/>
            <a:ext cx="240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4241880" y="6297480"/>
            <a:ext cx="234720" cy="163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4289400" y="6305400"/>
            <a:ext cx="1972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8296200" y="1085760"/>
            <a:ext cx="757440" cy="185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8345520" y="1104840"/>
            <a:ext cx="597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d-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44E5-57B9-4194-AE41-E4C53D996808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829C0-37FF-45E7-9043-5DE369B78D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2751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2752" name=""/>
          <p:cNvSpPr/>
          <p:nvPr/>
        </p:nvSpPr>
        <p:spPr>
          <a:xfrm>
            <a:off x="306360" y="154080"/>
            <a:ext cx="61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 – Mayo-Juni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1868-479F-4C26-ABAF-FE57812790A7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5A2AE-C301-4D7F-85D6-07636C9A23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3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2754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2755" name=""/>
          <p:cNvSpPr/>
          <p:nvPr/>
        </p:nvSpPr>
        <p:spPr>
          <a:xfrm>
            <a:off x="306360" y="154080"/>
            <a:ext cx="61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 – Julio-Agost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839F-0469-4D03-B55F-FDBA11CBC26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F3CD1-33F5-4A9D-97C1-E9452E66A3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6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2757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2758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 – Septiembre-Octu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63F1B-DC5D-4880-BEB9-B8F5EBF3885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F84B9-4DC7-409F-A38D-C97CFF1C31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9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sp>
        <p:nvSpPr>
          <p:cNvPr id="2760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50760" y="895320"/>
            <a:ext cx="9164520" cy="5565960"/>
            <a:chOff x="50760" y="895320"/>
            <a:chExt cx="9164520" cy="5565960"/>
          </a:xfrm>
        </p:grpSpPr>
        <p:grpSp>
          <p:nvGrpSpPr>
            <p:cNvPr id="2762" name=""/>
            <p:cNvGrpSpPr/>
            <p:nvPr/>
          </p:nvGrpSpPr>
          <p:grpSpPr>
            <a:xfrm>
              <a:off x="188640" y="1235160"/>
              <a:ext cx="8171280" cy="4843440"/>
              <a:chOff x="188640" y="1235160"/>
              <a:chExt cx="8171280" cy="4843440"/>
            </a:xfrm>
          </p:grpSpPr>
          <p:sp>
            <p:nvSpPr>
              <p:cNvPr id="2763" name=""/>
              <p:cNvSpPr/>
              <p:nvPr/>
            </p:nvSpPr>
            <p:spPr>
              <a:xfrm>
                <a:off x="411120" y="1935000"/>
                <a:ext cx="794880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11120" y="602604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11120" y="551484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11120" y="50022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11120" y="44928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1120" y="39798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11120" y="34704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11120" y="29574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11120" y="24462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11120" y="19350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11120" y="1935000"/>
                <a:ext cx="794880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25520" y="5538960"/>
                <a:ext cx="9828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811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157968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170640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1835280" y="5667480"/>
                <a:ext cx="982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1963800" y="5641920"/>
                <a:ext cx="9828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090880" y="5667480"/>
                <a:ext cx="10152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220840" y="5616720"/>
                <a:ext cx="9864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3479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476440" y="5743440"/>
                <a:ext cx="9864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98944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116160" y="5462640"/>
                <a:ext cx="1000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244680" y="5335560"/>
                <a:ext cx="100080" cy="433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375000" y="5565600"/>
                <a:ext cx="9828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350208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63060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3886200" y="5692680"/>
                <a:ext cx="1000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014720" y="5743440"/>
                <a:ext cx="9864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414180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527720" y="5743440"/>
                <a:ext cx="9972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78476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911840" y="5489640"/>
                <a:ext cx="9972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040360" y="5259240"/>
                <a:ext cx="9828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11120" y="5769000"/>
                <a:ext cx="7948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539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V="1">
                <a:off x="666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795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923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105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1181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1309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43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156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69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1820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V="1">
                <a:off x="1949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V="1">
                <a:off x="2077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V="1">
                <a:off x="220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233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2462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2590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V="1">
                <a:off x="2719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284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2975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3103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3230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3360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V="1">
                <a:off x="3489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361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V="1">
                <a:off x="3745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3871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V="1">
                <a:off x="4000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V="1">
                <a:off x="4129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V="1">
                <a:off x="4255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V="1">
                <a:off x="4386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4514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V="1">
                <a:off x="464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4770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V="1">
                <a:off x="4898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V="1">
                <a:off x="5025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5154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V="1">
                <a:off x="5283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V="1">
                <a:off x="5410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5540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V="1">
                <a:off x="5667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5796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V="1">
                <a:off x="5924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V="1">
                <a:off x="605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V="1">
                <a:off x="6180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6308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V="1">
                <a:off x="6435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>
                <a:off x="6564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V="1">
                <a:off x="6694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6821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V="1">
                <a:off x="6950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7077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7205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334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V="1">
                <a:off x="7461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7589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7718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7846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7975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8104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8231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V="1">
                <a:off x="8359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68000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rot="16200000">
                <a:off x="43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rot="16200000">
                <a:off x="566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rot="16200000">
                <a:off x="693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rot="16200000">
                <a:off x="822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rot="16200000">
                <a:off x="952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rot="16200000">
                <a:off x="10792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rot="16200000">
                <a:off x="1207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rot="16200000">
                <a:off x="1336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rot="16200000">
                <a:off x="1463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rot="16200000">
                <a:off x="1564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rot="16200000">
                <a:off x="1692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rot="16200000">
                <a:off x="181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rot="16200000">
                <a:off x="194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rot="16200000">
                <a:off x="2080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rot="16200000">
                <a:off x="2207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rot="16200000">
                <a:off x="233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rot="16200000">
                <a:off x="2462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rot="16200000">
                <a:off x="2591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rot="16200000">
                <a:off x="271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rot="16200000">
                <a:off x="2846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rot="16200000">
                <a:off x="2975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rot="16200000">
                <a:off x="3103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rot="16200000">
                <a:off x="3232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rot="16200000">
                <a:off x="3360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rot="16200000">
                <a:off x="3489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rot="16200000">
                <a:off x="3616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rot="16200000">
                <a:off x="3745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rot="16200000">
                <a:off x="3872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rot="16200000">
                <a:off x="4001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rot="16200000">
                <a:off x="4129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rot="16200000">
                <a:off x="4256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rot="16200000">
                <a:off x="4414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rot="16200000">
                <a:off x="4543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rot="16200000">
                <a:off x="46702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rot="16200000">
                <a:off x="4798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rot="16200000">
                <a:off x="49273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rot="16200000">
                <a:off x="5054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rot="16200000">
                <a:off x="5182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rot="16200000">
                <a:off x="5311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rot="16200000">
                <a:off x="54385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rot="16200000">
                <a:off x="5540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rot="16200000">
                <a:off x="5667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rot="16200000">
                <a:off x="5796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rot="16200000">
                <a:off x="5924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rot="16200000">
                <a:off x="6051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rot="16200000">
                <a:off x="6180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rot="16200000">
                <a:off x="6309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rot="16200000">
                <a:off x="6436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rot="16200000">
                <a:off x="6564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rot="16200000">
                <a:off x="6694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rot="16200000">
                <a:off x="6822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rot="16200000">
                <a:off x="6950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rot="16200000">
                <a:off x="70776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rot="16200000">
                <a:off x="72061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rot="16200000">
                <a:off x="73346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rot="16200000">
                <a:off x="74617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rot="16200000">
                <a:off x="75902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16200000">
                <a:off x="77187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16200000">
                <a:off x="78472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16200000">
                <a:off x="79758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16200000">
                <a:off x="81046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16200000">
                <a:off x="8231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39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66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95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923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1052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11811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13096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1436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5652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1693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820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1949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2077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2206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2335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24620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2590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27194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846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9750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3" name=""/>
            <p:cNvSpPr/>
            <p:nvPr/>
          </p:nvSpPr>
          <p:spPr>
            <a:xfrm>
              <a:off x="3103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230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360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89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361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3745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871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000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129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255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14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641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770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898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025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154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283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410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540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667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796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924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051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180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308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435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564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694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821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950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077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05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334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461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589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718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846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975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104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231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39292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33780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3599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3862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59640" y="3981600"/>
              <a:ext cx="75564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9636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606520" y="4005360"/>
              <a:ext cx="587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1-Hondur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12740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17384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05320" y="6297480"/>
              <a:ext cx="2350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5320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59640" y="3790800"/>
              <a:ext cx="75564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50932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80ED-7B80-4F1E-BBDF-0E686DA0C2D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BBA8D-DC2E-4B1E-869E-AE3E1ACB37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3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024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025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6DF3-29B7-43C6-8F96-C9C5ABCB4B9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DEB25-7A4B-4C96-8B19-CF3A2B310A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 Lozano</dc:creator>
  <dc:description/>
  <dc:language>en-US</dc:language>
  <cp:lastModifiedBy>PC</cp:lastModifiedBy>
  <cp:lastPrinted>2002-01-29T16:00:10Z</cp:lastPrinted>
  <dcterms:modified xsi:type="dcterms:W3CDTF">2009-11-11T11:43:36Z</dcterms:modified>
  <cp:revision>1139</cp:revision>
  <dc:subject/>
  <dc:title>Sistema Monitoreo Barreras Automáticas</dc:title>
</cp:coreProperties>
</file>